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94CF-28B7-42EC-9551-3E17E422F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8460-E904-42AF-A273-1DBE97B38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6780-D92E-4453-AABF-AECF84E17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0DC8-FB72-4DA9-92F4-DC088EF5B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D939D-D601-4C2D-AA9F-90648282D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5B502-2F78-4E59-A386-4D603DA74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C3140-237F-4812-8955-2C793DD63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E420A-EE17-40C4-ACDD-12F8F204A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5074F-0A88-4055-92F5-C8655126B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DEBF2-D6E3-4E8E-B4AF-6164CA10C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7330C-6D46-4F84-A5F3-9FDA6983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7413-8C58-4D0E-BDFF-6BDC7C80E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0109B-DC23-433A-8615-C363F6D3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74652-701C-4C9E-A5F0-7D9A573C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8D940-A986-4BE3-A1B5-0E51EC1FE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FE403-EDB4-47B5-9D52-06FCDD63F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78DC6-75A1-4E44-9F21-A7ED0D15B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AEC5-1CF0-4D2B-B61E-86BA3E1DC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95E5-4F2B-4BAA-9022-347A533F3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73B7-562E-4BE0-888D-60C2CD8E2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8089-9652-442D-804A-D8B2685BF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C1D0-793B-4651-9C55-1E9535B1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2819-CBA9-4D6A-BF2E-00978F4E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483E-9151-49DA-83DD-1513C369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0FEB3-6B02-4F83-A8EC-F682D6655A3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8306A-CCB8-4A11-9716-CCCE4DDF261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arm-up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467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676520" y="3886200"/>
          <a:ext cx="1447560" cy="124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886200"/>
                    <a:ext cx="1447560" cy="12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600200" y="1523880"/>
                <a:ext cx="111276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÷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2347920" y="2330280"/>
            <a:ext cx="322200" cy="241560"/>
          </a:xfrm>
          <a:custGeom>
            <a:avLst/>
            <a:gdLst/>
            <a:ahLst/>
            <a:rect l="l" t="t" r="r" b="b"/>
            <a:pathLst>
              <a:path w="894" h="671">
                <a:moveTo>
                  <a:pt x="6548" y="6648"/>
                </a:moveTo>
                <a:cubicBezTo>
                  <a:pt x="6540" y="6648"/>
                  <a:pt x="6532" y="6648"/>
                  <a:pt x="6524" y="6648"/>
                </a:cubicBezTo>
                <a:cubicBezTo>
                  <a:pt x="6538" y="6604"/>
                  <a:pt x="6642" y="6589"/>
                  <a:pt x="6697" y="6573"/>
                </a:cubicBezTo>
                <a:cubicBezTo>
                  <a:pt x="6830" y="6535"/>
                  <a:pt x="6981" y="6528"/>
                  <a:pt x="7119" y="6524"/>
                </a:cubicBezTo>
                <a:cubicBezTo>
                  <a:pt x="7186" y="6522"/>
                  <a:pt x="7229" y="6499"/>
                  <a:pt x="7293" y="6499"/>
                </a:cubicBezTo>
                <a:cubicBezTo>
                  <a:pt x="7343" y="6499"/>
                  <a:pt x="7403" y="6515"/>
                  <a:pt x="7417" y="6474"/>
                </a:cubicBezTo>
              </a:path>
              <a:path w="894" h="671">
                <a:moveTo>
                  <a:pt x="6995" y="6772"/>
                </a:moveTo>
                <a:cubicBezTo>
                  <a:pt x="7050" y="6715"/>
                  <a:pt x="6998" y="6991"/>
                  <a:pt x="6995" y="7020"/>
                </a:cubicBezTo>
                <a:cubicBezTo>
                  <a:pt x="6991" y="7059"/>
                  <a:pt x="6995" y="7104"/>
                  <a:pt x="6995" y="714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41840" y="1697040"/>
            <a:ext cx="1295280" cy="384120"/>
          </a:xfrm>
          <a:custGeom>
            <a:avLst/>
            <a:gdLst/>
            <a:ahLst/>
            <a:rect l="l" t="t" r="r" b="b"/>
            <a:pathLst>
              <a:path w="3598" h="1067">
                <a:moveTo>
                  <a:pt x="10393" y="4713"/>
                </a:moveTo>
                <a:lnTo>
                  <a:pt x="10393" y="4713"/>
                </a:lnTo>
                <a:lnTo>
                  <a:pt x="10393" y="4713"/>
                </a:lnTo>
              </a:path>
              <a:path w="3598" h="1067">
                <a:moveTo>
                  <a:pt x="10393" y="4762"/>
                </a:moveTo>
                <a:lnTo>
                  <a:pt x="10393" y="4762"/>
                </a:lnTo>
              </a:path>
              <a:path w="3598" h="1067">
                <a:moveTo>
                  <a:pt x="13717" y="5779"/>
                </a:moveTo>
                <a:cubicBezTo>
                  <a:pt x="13801" y="5766"/>
                  <a:pt x="13885" y="5746"/>
                  <a:pt x="13965" y="5730"/>
                </a:cubicBezTo>
                <a:cubicBezTo>
                  <a:pt x="13973" y="5730"/>
                  <a:pt x="13982" y="5730"/>
                  <a:pt x="13990" y="573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17920" y="1374840"/>
            <a:ext cx="2706840" cy="1125360"/>
          </a:xfrm>
          <a:custGeom>
            <a:avLst/>
            <a:gdLst/>
            <a:ahLst/>
            <a:rect l="l" t="t" r="r" b="b"/>
            <a:pathLst>
              <a:path w="7517" h="3126">
                <a:moveTo>
                  <a:pt x="10393" y="4936"/>
                </a:moveTo>
                <a:cubicBezTo>
                  <a:pt x="10393" y="5068"/>
                  <a:pt x="10380" y="5186"/>
                  <a:pt x="10368" y="5308"/>
                </a:cubicBezTo>
                <a:cubicBezTo>
                  <a:pt x="10368" y="5316"/>
                  <a:pt x="10368" y="5325"/>
                  <a:pt x="10368" y="5333"/>
                </a:cubicBezTo>
              </a:path>
              <a:path w="7517" h="3126">
                <a:moveTo>
                  <a:pt x="9773" y="5581"/>
                </a:moveTo>
                <a:cubicBezTo>
                  <a:pt x="10028" y="5536"/>
                  <a:pt x="10284" y="5519"/>
                  <a:pt x="10542" y="5507"/>
                </a:cubicBezTo>
                <a:cubicBezTo>
                  <a:pt x="10624" y="5503"/>
                  <a:pt x="10708" y="5507"/>
                  <a:pt x="10790" y="5507"/>
                </a:cubicBezTo>
              </a:path>
              <a:path w="7517" h="3126">
                <a:moveTo>
                  <a:pt x="10220" y="5829"/>
                </a:moveTo>
                <a:cubicBezTo>
                  <a:pt x="10240" y="5935"/>
                  <a:pt x="10235" y="6043"/>
                  <a:pt x="10195" y="6152"/>
                </a:cubicBezTo>
                <a:cubicBezTo>
                  <a:pt x="10187" y="6160"/>
                  <a:pt x="10178" y="6168"/>
                  <a:pt x="10170" y="6176"/>
                </a:cubicBezTo>
                <a:cubicBezTo>
                  <a:pt x="10358" y="6168"/>
                  <a:pt x="10532" y="6125"/>
                  <a:pt x="10716" y="6102"/>
                </a:cubicBezTo>
              </a:path>
              <a:path w="7517" h="3126">
                <a:moveTo>
                  <a:pt x="10691" y="5730"/>
                </a:moveTo>
                <a:cubicBezTo>
                  <a:pt x="10691" y="5895"/>
                  <a:pt x="10661" y="6063"/>
                  <a:pt x="10641" y="6226"/>
                </a:cubicBezTo>
                <a:cubicBezTo>
                  <a:pt x="10627" y="6342"/>
                  <a:pt x="10606" y="6458"/>
                  <a:pt x="10592" y="6573"/>
                </a:cubicBezTo>
              </a:path>
              <a:path w="7517" h="3126">
                <a:moveTo>
                  <a:pt x="10393" y="4614"/>
                </a:moveTo>
                <a:cubicBezTo>
                  <a:pt x="10393" y="4515"/>
                  <a:pt x="10402" y="4763"/>
                  <a:pt x="10393" y="4862"/>
                </a:cubicBezTo>
                <a:cubicBezTo>
                  <a:pt x="10384" y="4959"/>
                  <a:pt x="10360" y="5004"/>
                  <a:pt x="10344" y="5085"/>
                </a:cubicBezTo>
              </a:path>
              <a:path w="7517" h="3126">
                <a:moveTo>
                  <a:pt x="11410" y="5283"/>
                </a:moveTo>
                <a:cubicBezTo>
                  <a:pt x="11426" y="5268"/>
                  <a:pt x="11629" y="5601"/>
                  <a:pt x="11658" y="5655"/>
                </a:cubicBezTo>
                <a:cubicBezTo>
                  <a:pt x="11701" y="5737"/>
                  <a:pt x="11714" y="5827"/>
                  <a:pt x="11757" y="5904"/>
                </a:cubicBezTo>
              </a:path>
              <a:path w="7517" h="3126">
                <a:moveTo>
                  <a:pt x="11757" y="5259"/>
                </a:moveTo>
                <a:cubicBezTo>
                  <a:pt x="11692" y="5411"/>
                  <a:pt x="11564" y="5554"/>
                  <a:pt x="11485" y="5705"/>
                </a:cubicBezTo>
                <a:cubicBezTo>
                  <a:pt x="11465" y="5743"/>
                  <a:pt x="11422" y="5831"/>
                  <a:pt x="11410" y="5879"/>
                </a:cubicBezTo>
              </a:path>
              <a:path w="7517" h="3126">
                <a:moveTo>
                  <a:pt x="12675" y="4614"/>
                </a:moveTo>
                <a:cubicBezTo>
                  <a:pt x="12675" y="4489"/>
                  <a:pt x="12652" y="4811"/>
                  <a:pt x="12650" y="4936"/>
                </a:cubicBezTo>
                <a:cubicBezTo>
                  <a:pt x="12648" y="5044"/>
                  <a:pt x="12650" y="5151"/>
                  <a:pt x="12650" y="5259"/>
                </a:cubicBezTo>
              </a:path>
              <a:path w="7517" h="3126">
                <a:moveTo>
                  <a:pt x="12179" y="5531"/>
                </a:moveTo>
                <a:cubicBezTo>
                  <a:pt x="12354" y="5531"/>
                  <a:pt x="12524" y="5509"/>
                  <a:pt x="12700" y="5507"/>
                </a:cubicBezTo>
                <a:cubicBezTo>
                  <a:pt x="12852" y="5505"/>
                  <a:pt x="12997" y="5482"/>
                  <a:pt x="13146" y="5482"/>
                </a:cubicBezTo>
              </a:path>
              <a:path w="7517" h="3126">
                <a:moveTo>
                  <a:pt x="12477" y="5854"/>
                </a:moveTo>
                <a:cubicBezTo>
                  <a:pt x="12428" y="5756"/>
                  <a:pt x="12714" y="5759"/>
                  <a:pt x="12774" y="5755"/>
                </a:cubicBezTo>
                <a:cubicBezTo>
                  <a:pt x="12898" y="5755"/>
                  <a:pt x="12923" y="5755"/>
                  <a:pt x="12998" y="5755"/>
                </a:cubicBezTo>
                <a:cubicBezTo>
                  <a:pt x="12970" y="5961"/>
                  <a:pt x="12873" y="6131"/>
                  <a:pt x="12799" y="6325"/>
                </a:cubicBezTo>
                <a:cubicBezTo>
                  <a:pt x="12758" y="6449"/>
                  <a:pt x="12750" y="6474"/>
                  <a:pt x="12725" y="6548"/>
                </a:cubicBezTo>
              </a:path>
              <a:path w="7517" h="3126">
                <a:moveTo>
                  <a:pt x="13667" y="5507"/>
                </a:moveTo>
                <a:cubicBezTo>
                  <a:pt x="13728" y="5462"/>
                  <a:pt x="13814" y="5482"/>
                  <a:pt x="13891" y="5482"/>
                </a:cubicBezTo>
                <a:cubicBezTo>
                  <a:pt x="13949" y="5482"/>
                  <a:pt x="13957" y="5482"/>
                  <a:pt x="13990" y="5482"/>
                </a:cubicBezTo>
              </a:path>
              <a:path w="7517" h="3126">
                <a:moveTo>
                  <a:pt x="15429" y="4738"/>
                </a:moveTo>
                <a:cubicBezTo>
                  <a:pt x="15429" y="4868"/>
                  <a:pt x="15489" y="4982"/>
                  <a:pt x="15503" y="5110"/>
                </a:cubicBezTo>
                <a:cubicBezTo>
                  <a:pt x="15513" y="5198"/>
                  <a:pt x="15481" y="5311"/>
                  <a:pt x="15528" y="5358"/>
                </a:cubicBezTo>
              </a:path>
              <a:path w="7517" h="3126">
                <a:moveTo>
                  <a:pt x="14957" y="5556"/>
                </a:moveTo>
                <a:cubicBezTo>
                  <a:pt x="15196" y="5504"/>
                  <a:pt x="15432" y="5442"/>
                  <a:pt x="15677" y="5407"/>
                </a:cubicBezTo>
                <a:cubicBezTo>
                  <a:pt x="15714" y="5402"/>
                  <a:pt x="16055" y="5326"/>
                  <a:pt x="16073" y="5383"/>
                </a:cubicBezTo>
              </a:path>
              <a:path w="7517" h="3126">
                <a:moveTo>
                  <a:pt x="15205" y="5829"/>
                </a:moveTo>
                <a:cubicBezTo>
                  <a:pt x="15161" y="5807"/>
                  <a:pt x="15244" y="5733"/>
                  <a:pt x="15329" y="5779"/>
                </a:cubicBezTo>
                <a:cubicBezTo>
                  <a:pt x="15625" y="5940"/>
                  <a:pt x="15342" y="6255"/>
                  <a:pt x="15180" y="6375"/>
                </a:cubicBezTo>
                <a:cubicBezTo>
                  <a:pt x="15059" y="6436"/>
                  <a:pt x="15040" y="6460"/>
                  <a:pt x="14957" y="6449"/>
                </a:cubicBezTo>
                <a:cubicBezTo>
                  <a:pt x="15009" y="6283"/>
                  <a:pt x="15085" y="6134"/>
                  <a:pt x="15304" y="6201"/>
                </a:cubicBezTo>
                <a:cubicBezTo>
                  <a:pt x="15395" y="6229"/>
                  <a:pt x="15427" y="6359"/>
                  <a:pt x="15478" y="6325"/>
                </a:cubicBezTo>
              </a:path>
              <a:path w="7517" h="3126">
                <a:moveTo>
                  <a:pt x="15875" y="5655"/>
                </a:moveTo>
                <a:cubicBezTo>
                  <a:pt x="15716" y="5685"/>
                  <a:pt x="15650" y="5738"/>
                  <a:pt x="15553" y="5879"/>
                </a:cubicBezTo>
                <a:cubicBezTo>
                  <a:pt x="15699" y="5964"/>
                  <a:pt x="15917" y="5949"/>
                  <a:pt x="16049" y="6077"/>
                </a:cubicBezTo>
                <a:cubicBezTo>
                  <a:pt x="16065" y="6110"/>
                  <a:pt x="16082" y="6143"/>
                  <a:pt x="16098" y="6176"/>
                </a:cubicBezTo>
                <a:cubicBezTo>
                  <a:pt x="15967" y="6225"/>
                  <a:pt x="15838" y="6178"/>
                  <a:pt x="15825" y="6003"/>
                </a:cubicBezTo>
                <a:cubicBezTo>
                  <a:pt x="15818" y="5904"/>
                  <a:pt x="15862" y="5739"/>
                  <a:pt x="15900" y="5655"/>
                </a:cubicBezTo>
              </a:path>
              <a:path w="7517" h="3126">
                <a:moveTo>
                  <a:pt x="14660" y="6697"/>
                </a:moveTo>
                <a:cubicBezTo>
                  <a:pt x="15017" y="6802"/>
                  <a:pt x="15353" y="6810"/>
                  <a:pt x="15726" y="6747"/>
                </a:cubicBezTo>
                <a:cubicBezTo>
                  <a:pt x="16290" y="6652"/>
                  <a:pt x="16892" y="6482"/>
                  <a:pt x="17165" y="5928"/>
                </a:cubicBezTo>
                <a:cubicBezTo>
                  <a:pt x="17375" y="5501"/>
                  <a:pt x="17328" y="4954"/>
                  <a:pt x="17115" y="4539"/>
                </a:cubicBezTo>
                <a:cubicBezTo>
                  <a:pt x="16859" y="4041"/>
                  <a:pt x="16390" y="3767"/>
                  <a:pt x="15825" y="3820"/>
                </a:cubicBezTo>
                <a:cubicBezTo>
                  <a:pt x="14721" y="3924"/>
                  <a:pt x="13599" y="5168"/>
                  <a:pt x="14114" y="6276"/>
                </a:cubicBezTo>
                <a:cubicBezTo>
                  <a:pt x="14308" y="6694"/>
                  <a:pt x="14652" y="6793"/>
                  <a:pt x="15032" y="694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4062240"/>
            <a:ext cx="384120" cy="358920"/>
          </a:xfrm>
          <a:custGeom>
            <a:avLst/>
            <a:gdLst/>
            <a:ahLst/>
            <a:rect l="l" t="t" r="r" b="b"/>
            <a:pathLst>
              <a:path w="1068" h="993">
                <a:moveTo>
                  <a:pt x="13196" y="11435"/>
                </a:moveTo>
                <a:cubicBezTo>
                  <a:pt x="13186" y="11496"/>
                  <a:pt x="13158" y="11551"/>
                  <a:pt x="13146" y="11609"/>
                </a:cubicBezTo>
                <a:cubicBezTo>
                  <a:pt x="13252" y="11609"/>
                  <a:pt x="13318" y="11615"/>
                  <a:pt x="13345" y="11733"/>
                </a:cubicBezTo>
                <a:cubicBezTo>
                  <a:pt x="13375" y="11864"/>
                  <a:pt x="13307" y="11836"/>
                  <a:pt x="13221" y="11807"/>
                </a:cubicBezTo>
              </a:path>
              <a:path w="1068" h="993">
                <a:moveTo>
                  <a:pt x="13146" y="11460"/>
                </a:moveTo>
                <a:cubicBezTo>
                  <a:pt x="13170" y="11404"/>
                  <a:pt x="13213" y="11364"/>
                  <a:pt x="13271" y="11336"/>
                </a:cubicBezTo>
                <a:cubicBezTo>
                  <a:pt x="13284" y="11296"/>
                  <a:pt x="13282" y="11326"/>
                  <a:pt x="13295" y="11286"/>
                </a:cubicBezTo>
              </a:path>
              <a:path w="1068" h="993">
                <a:moveTo>
                  <a:pt x="12278" y="12278"/>
                </a:moveTo>
                <a:cubicBezTo>
                  <a:pt x="12563" y="12059"/>
                  <a:pt x="12855" y="11850"/>
                  <a:pt x="13122" y="11609"/>
                </a:cubicBezTo>
                <a:cubicBezTo>
                  <a:pt x="13189" y="11549"/>
                  <a:pt x="13218" y="11508"/>
                  <a:pt x="13271" y="1143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456080" y="3813120"/>
            <a:ext cx="36720" cy="204840"/>
          </a:xfrm>
          <a:custGeom>
            <a:avLst/>
            <a:gdLst/>
            <a:ahLst/>
            <a:rect l="l" t="t" r="r" b="b"/>
            <a:pathLst>
              <a:path w="100" h="571">
                <a:moveTo>
                  <a:pt x="12378" y="10592"/>
                </a:moveTo>
                <a:cubicBezTo>
                  <a:pt x="12399" y="10766"/>
                  <a:pt x="12448" y="10938"/>
                  <a:pt x="12477" y="11112"/>
                </a:cubicBezTo>
                <a:cubicBezTo>
                  <a:pt x="12477" y="11137"/>
                  <a:pt x="12477" y="11145"/>
                  <a:pt x="12477" y="1116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33920" y="4106880"/>
            <a:ext cx="2394000" cy="366840"/>
          </a:xfrm>
          <a:custGeom>
            <a:avLst/>
            <a:gdLst/>
            <a:ahLst/>
            <a:rect l="l" t="t" r="r" b="b"/>
            <a:pathLst>
              <a:path w="6648" h="1018">
                <a:moveTo>
                  <a:pt x="12874" y="12005"/>
                </a:moveTo>
                <a:cubicBezTo>
                  <a:pt x="12874" y="11997"/>
                  <a:pt x="12874" y="11989"/>
                  <a:pt x="12874" y="11981"/>
                </a:cubicBezTo>
              </a:path>
              <a:path w="6648" h="1018">
                <a:moveTo>
                  <a:pt x="15677" y="11807"/>
                </a:moveTo>
                <a:cubicBezTo>
                  <a:pt x="15787" y="11739"/>
                  <a:pt x="15870" y="11696"/>
                  <a:pt x="15999" y="11683"/>
                </a:cubicBezTo>
              </a:path>
              <a:path w="6648" h="1018">
                <a:moveTo>
                  <a:pt x="15726" y="11410"/>
                </a:moveTo>
                <a:cubicBezTo>
                  <a:pt x="15726" y="11462"/>
                  <a:pt x="15745" y="11489"/>
                  <a:pt x="15801" y="11509"/>
                </a:cubicBezTo>
              </a:path>
              <a:path w="6648" h="1018">
                <a:moveTo>
                  <a:pt x="15875" y="11981"/>
                </a:moveTo>
                <a:cubicBezTo>
                  <a:pt x="15883" y="11981"/>
                  <a:pt x="15892" y="11981"/>
                  <a:pt x="15900" y="11981"/>
                </a:cubicBezTo>
              </a:path>
              <a:path w="6648" h="1018">
                <a:moveTo>
                  <a:pt x="15900" y="11981"/>
                </a:moveTo>
                <a:lnTo>
                  <a:pt x="15900" y="11981"/>
                </a:lnTo>
              </a:path>
              <a:path w="6648" h="1018">
                <a:moveTo>
                  <a:pt x="16743" y="12402"/>
                </a:moveTo>
                <a:cubicBezTo>
                  <a:pt x="16867" y="12355"/>
                  <a:pt x="16988" y="12314"/>
                  <a:pt x="17115" y="12278"/>
                </a:cubicBezTo>
              </a:path>
              <a:path w="6648" h="1018">
                <a:moveTo>
                  <a:pt x="19224" y="12427"/>
                </a:moveTo>
                <a:cubicBezTo>
                  <a:pt x="19331" y="12400"/>
                  <a:pt x="19420" y="12374"/>
                  <a:pt x="19521" y="1232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24240" y="3795840"/>
            <a:ext cx="3483000" cy="1411200"/>
          </a:xfrm>
          <a:custGeom>
            <a:avLst/>
            <a:gdLst/>
            <a:ahLst/>
            <a:rect l="l" t="t" r="r" b="b"/>
            <a:pathLst>
              <a:path w="9674" h="3920">
                <a:moveTo>
                  <a:pt x="12601" y="11485"/>
                </a:moveTo>
                <a:cubicBezTo>
                  <a:pt x="12651" y="11410"/>
                  <a:pt x="12424" y="11529"/>
                  <a:pt x="12402" y="11534"/>
                </a:cubicBezTo>
                <a:cubicBezTo>
                  <a:pt x="12318" y="11554"/>
                  <a:pt x="12138" y="11514"/>
                  <a:pt x="12105" y="11609"/>
                </a:cubicBezTo>
                <a:cubicBezTo>
                  <a:pt x="12061" y="11736"/>
                  <a:pt x="12080" y="11873"/>
                  <a:pt x="12080" y="12005"/>
                </a:cubicBezTo>
                <a:cubicBezTo>
                  <a:pt x="12170" y="11969"/>
                  <a:pt x="12266" y="11865"/>
                  <a:pt x="12378" y="11857"/>
                </a:cubicBezTo>
                <a:cubicBezTo>
                  <a:pt x="12571" y="11843"/>
                  <a:pt x="12660" y="12099"/>
                  <a:pt x="12526" y="12229"/>
                </a:cubicBezTo>
                <a:cubicBezTo>
                  <a:pt x="12407" y="12345"/>
                  <a:pt x="12207" y="12353"/>
                  <a:pt x="12055" y="12353"/>
                </a:cubicBezTo>
              </a:path>
              <a:path w="9674" h="3920">
                <a:moveTo>
                  <a:pt x="11733" y="12626"/>
                </a:moveTo>
                <a:cubicBezTo>
                  <a:pt x="12081" y="12615"/>
                  <a:pt x="12425" y="12601"/>
                  <a:pt x="12774" y="12601"/>
                </a:cubicBezTo>
                <a:cubicBezTo>
                  <a:pt x="12887" y="12601"/>
                  <a:pt x="13023" y="12570"/>
                  <a:pt x="13022" y="12650"/>
                </a:cubicBezTo>
              </a:path>
              <a:path w="9674" h="3920">
                <a:moveTo>
                  <a:pt x="12725" y="12998"/>
                </a:moveTo>
                <a:cubicBezTo>
                  <a:pt x="12733" y="12873"/>
                  <a:pt x="12705" y="12662"/>
                  <a:pt x="12502" y="12700"/>
                </a:cubicBezTo>
                <a:cubicBezTo>
                  <a:pt x="12290" y="12739"/>
                  <a:pt x="12277" y="12908"/>
                  <a:pt x="12229" y="13072"/>
                </a:cubicBezTo>
                <a:cubicBezTo>
                  <a:pt x="12463" y="13188"/>
                  <a:pt x="12521" y="13134"/>
                  <a:pt x="12700" y="12948"/>
                </a:cubicBezTo>
                <a:cubicBezTo>
                  <a:pt x="12739" y="12909"/>
                  <a:pt x="12756" y="12908"/>
                  <a:pt x="12750" y="12874"/>
                </a:cubicBezTo>
                <a:cubicBezTo>
                  <a:pt x="12726" y="13036"/>
                  <a:pt x="12686" y="13220"/>
                  <a:pt x="12675" y="13395"/>
                </a:cubicBezTo>
                <a:cubicBezTo>
                  <a:pt x="12668" y="13507"/>
                  <a:pt x="12700" y="13549"/>
                  <a:pt x="12700" y="13643"/>
                </a:cubicBezTo>
              </a:path>
              <a:path w="9674" h="3920">
                <a:moveTo>
                  <a:pt x="13519" y="12254"/>
                </a:moveTo>
                <a:cubicBezTo>
                  <a:pt x="13519" y="12229"/>
                  <a:pt x="13519" y="12221"/>
                  <a:pt x="13494" y="12229"/>
                </a:cubicBezTo>
                <a:cubicBezTo>
                  <a:pt x="13494" y="12221"/>
                  <a:pt x="13606" y="12521"/>
                  <a:pt x="13643" y="12576"/>
                </a:cubicBezTo>
                <a:cubicBezTo>
                  <a:pt x="13697" y="12657"/>
                  <a:pt x="13818" y="12812"/>
                  <a:pt x="13866" y="12874"/>
                </a:cubicBezTo>
                <a:cubicBezTo>
                  <a:pt x="13874" y="12882"/>
                  <a:pt x="13883" y="12890"/>
                  <a:pt x="13891" y="12898"/>
                </a:cubicBezTo>
              </a:path>
              <a:path w="9674" h="3920">
                <a:moveTo>
                  <a:pt x="13866" y="12229"/>
                </a:moveTo>
                <a:cubicBezTo>
                  <a:pt x="13753" y="12417"/>
                  <a:pt x="13649" y="12627"/>
                  <a:pt x="13543" y="12824"/>
                </a:cubicBezTo>
                <a:cubicBezTo>
                  <a:pt x="13527" y="12857"/>
                  <a:pt x="13510" y="12890"/>
                  <a:pt x="13494" y="12923"/>
                </a:cubicBezTo>
              </a:path>
              <a:path w="9674" h="3920">
                <a:moveTo>
                  <a:pt x="14660" y="11633"/>
                </a:moveTo>
                <a:cubicBezTo>
                  <a:pt x="14627" y="11633"/>
                  <a:pt x="14610" y="11633"/>
                  <a:pt x="14585" y="11633"/>
                </a:cubicBezTo>
                <a:cubicBezTo>
                  <a:pt x="14623" y="11559"/>
                  <a:pt x="14759" y="11515"/>
                  <a:pt x="14808" y="11633"/>
                </a:cubicBezTo>
                <a:cubicBezTo>
                  <a:pt x="14905" y="11865"/>
                  <a:pt x="14719" y="12137"/>
                  <a:pt x="14511" y="12229"/>
                </a:cubicBezTo>
                <a:cubicBezTo>
                  <a:pt x="14421" y="12229"/>
                  <a:pt x="14395" y="12236"/>
                  <a:pt x="14362" y="12179"/>
                </a:cubicBezTo>
                <a:cubicBezTo>
                  <a:pt x="14481" y="12037"/>
                  <a:pt x="14565" y="11952"/>
                  <a:pt x="14734" y="12080"/>
                </a:cubicBezTo>
                <a:cubicBezTo>
                  <a:pt x="14844" y="12164"/>
                  <a:pt x="14814" y="12252"/>
                  <a:pt x="14858" y="12179"/>
                </a:cubicBezTo>
              </a:path>
              <a:path w="9674" h="3920">
                <a:moveTo>
                  <a:pt x="15032" y="11584"/>
                </a:moveTo>
                <a:cubicBezTo>
                  <a:pt x="15050" y="11527"/>
                  <a:pt x="15222" y="11559"/>
                  <a:pt x="15280" y="11559"/>
                </a:cubicBezTo>
                <a:cubicBezTo>
                  <a:pt x="15374" y="11559"/>
                  <a:pt x="15438" y="11547"/>
                  <a:pt x="15528" y="11534"/>
                </a:cubicBezTo>
                <a:cubicBezTo>
                  <a:pt x="15480" y="11700"/>
                  <a:pt x="15387" y="11864"/>
                  <a:pt x="15329" y="12030"/>
                </a:cubicBezTo>
                <a:cubicBezTo>
                  <a:pt x="15306" y="12095"/>
                  <a:pt x="15304" y="12122"/>
                  <a:pt x="15304" y="12179"/>
                </a:cubicBezTo>
              </a:path>
              <a:path w="9674" h="3920">
                <a:moveTo>
                  <a:pt x="14238" y="12477"/>
                </a:moveTo>
                <a:cubicBezTo>
                  <a:pt x="14468" y="12438"/>
                  <a:pt x="14692" y="12389"/>
                  <a:pt x="14932" y="12378"/>
                </a:cubicBezTo>
                <a:cubicBezTo>
                  <a:pt x="15068" y="12372"/>
                  <a:pt x="15408" y="12316"/>
                  <a:pt x="15528" y="12402"/>
                </a:cubicBezTo>
              </a:path>
              <a:path w="9674" h="3920">
                <a:moveTo>
                  <a:pt x="14585" y="12774"/>
                </a:moveTo>
                <a:cubicBezTo>
                  <a:pt x="14611" y="12802"/>
                  <a:pt x="14621" y="13083"/>
                  <a:pt x="14610" y="13196"/>
                </a:cubicBezTo>
                <a:cubicBezTo>
                  <a:pt x="14590" y="13295"/>
                  <a:pt x="14582" y="13311"/>
                  <a:pt x="14585" y="13370"/>
                </a:cubicBezTo>
              </a:path>
              <a:path w="9674" h="3920">
                <a:moveTo>
                  <a:pt x="15354" y="12725"/>
                </a:moveTo>
                <a:cubicBezTo>
                  <a:pt x="15274" y="12741"/>
                  <a:pt x="15191" y="12767"/>
                  <a:pt x="15106" y="12774"/>
                </a:cubicBezTo>
                <a:cubicBezTo>
                  <a:pt x="14985" y="12784"/>
                  <a:pt x="14961" y="12742"/>
                  <a:pt x="14957" y="12874"/>
                </a:cubicBezTo>
                <a:cubicBezTo>
                  <a:pt x="14957" y="12956"/>
                  <a:pt x="14957" y="12973"/>
                  <a:pt x="14957" y="13022"/>
                </a:cubicBezTo>
                <a:cubicBezTo>
                  <a:pt x="15052" y="13004"/>
                  <a:pt x="15082" y="12916"/>
                  <a:pt x="15180" y="12898"/>
                </a:cubicBezTo>
                <a:cubicBezTo>
                  <a:pt x="15370" y="12862"/>
                  <a:pt x="15415" y="13033"/>
                  <a:pt x="15329" y="13171"/>
                </a:cubicBezTo>
                <a:cubicBezTo>
                  <a:pt x="15252" y="13295"/>
                  <a:pt x="15135" y="13295"/>
                  <a:pt x="15007" y="13295"/>
                </a:cubicBezTo>
                <a:cubicBezTo>
                  <a:pt x="14999" y="13295"/>
                  <a:pt x="14990" y="13295"/>
                  <a:pt x="14982" y="13295"/>
                </a:cubicBezTo>
              </a:path>
              <a:path w="9674" h="3920">
                <a:moveTo>
                  <a:pt x="12750" y="11757"/>
                </a:moveTo>
                <a:cubicBezTo>
                  <a:pt x="12815" y="11725"/>
                  <a:pt x="12919" y="11702"/>
                  <a:pt x="12998" y="11683"/>
                </a:cubicBezTo>
                <a:cubicBezTo>
                  <a:pt x="13006" y="11683"/>
                  <a:pt x="13014" y="11683"/>
                  <a:pt x="13022" y="11683"/>
                </a:cubicBezTo>
              </a:path>
              <a:path w="9674" h="3920">
                <a:moveTo>
                  <a:pt x="12824" y="11559"/>
                </a:moveTo>
                <a:cubicBezTo>
                  <a:pt x="12824" y="11584"/>
                  <a:pt x="12824" y="11592"/>
                  <a:pt x="12824" y="11609"/>
                </a:cubicBezTo>
              </a:path>
              <a:path w="9674" h="3920">
                <a:moveTo>
                  <a:pt x="15453" y="13047"/>
                </a:moveTo>
                <a:cubicBezTo>
                  <a:pt x="15542" y="13069"/>
                  <a:pt x="15623" y="13049"/>
                  <a:pt x="15726" y="13022"/>
                </a:cubicBezTo>
                <a:cubicBezTo>
                  <a:pt x="15784" y="13003"/>
                  <a:pt x="15809" y="13013"/>
                  <a:pt x="15801" y="12973"/>
                </a:cubicBezTo>
              </a:path>
              <a:path w="9674" h="3920">
                <a:moveTo>
                  <a:pt x="16222" y="11286"/>
                </a:moveTo>
                <a:cubicBezTo>
                  <a:pt x="16214" y="11227"/>
                  <a:pt x="16190" y="11116"/>
                  <a:pt x="16123" y="11237"/>
                </a:cubicBezTo>
                <a:cubicBezTo>
                  <a:pt x="16074" y="11358"/>
                  <a:pt x="16058" y="11396"/>
                  <a:pt x="16073" y="11485"/>
                </a:cubicBezTo>
                <a:cubicBezTo>
                  <a:pt x="16222" y="11533"/>
                  <a:pt x="16232" y="11357"/>
                  <a:pt x="16272" y="11237"/>
                </a:cubicBezTo>
                <a:cubicBezTo>
                  <a:pt x="16314" y="11371"/>
                  <a:pt x="16418" y="11588"/>
                  <a:pt x="16371" y="11733"/>
                </a:cubicBezTo>
                <a:cubicBezTo>
                  <a:pt x="16302" y="11801"/>
                  <a:pt x="16259" y="11821"/>
                  <a:pt x="16173" y="11807"/>
                </a:cubicBezTo>
              </a:path>
              <a:path w="9674" h="3920">
                <a:moveTo>
                  <a:pt x="12923" y="13419"/>
                </a:moveTo>
                <a:cubicBezTo>
                  <a:pt x="12864" y="13419"/>
                  <a:pt x="12988" y="13400"/>
                  <a:pt x="13047" y="13395"/>
                </a:cubicBezTo>
                <a:cubicBezTo>
                  <a:pt x="13121" y="13395"/>
                  <a:pt x="13130" y="13395"/>
                  <a:pt x="13171" y="13395"/>
                </a:cubicBezTo>
              </a:path>
              <a:path w="9674" h="3920">
                <a:moveTo>
                  <a:pt x="13444" y="13271"/>
                </a:moveTo>
                <a:cubicBezTo>
                  <a:pt x="13452" y="13241"/>
                  <a:pt x="13419" y="13072"/>
                  <a:pt x="13345" y="13146"/>
                </a:cubicBezTo>
                <a:cubicBezTo>
                  <a:pt x="13315" y="13236"/>
                  <a:pt x="13304" y="13277"/>
                  <a:pt x="13295" y="13345"/>
                </a:cubicBezTo>
                <a:cubicBezTo>
                  <a:pt x="13303" y="13370"/>
                  <a:pt x="13312" y="13394"/>
                  <a:pt x="13320" y="13419"/>
                </a:cubicBezTo>
                <a:cubicBezTo>
                  <a:pt x="13377" y="13337"/>
                  <a:pt x="13417" y="13291"/>
                  <a:pt x="13444" y="13196"/>
                </a:cubicBezTo>
                <a:cubicBezTo>
                  <a:pt x="13485" y="13319"/>
                  <a:pt x="13540" y="13437"/>
                  <a:pt x="13568" y="13568"/>
                </a:cubicBezTo>
                <a:cubicBezTo>
                  <a:pt x="13568" y="13576"/>
                  <a:pt x="13568" y="13585"/>
                  <a:pt x="13568" y="13593"/>
                </a:cubicBezTo>
              </a:path>
              <a:path w="9674" h="3920">
                <a:moveTo>
                  <a:pt x="14163" y="12303"/>
                </a:moveTo>
                <a:cubicBezTo>
                  <a:pt x="14264" y="12202"/>
                  <a:pt x="14474" y="12097"/>
                  <a:pt x="14610" y="12030"/>
                </a:cubicBezTo>
                <a:cubicBezTo>
                  <a:pt x="15005" y="11836"/>
                  <a:pt x="15402" y="11646"/>
                  <a:pt x="15801" y="11460"/>
                </a:cubicBezTo>
                <a:cubicBezTo>
                  <a:pt x="15848" y="11438"/>
                  <a:pt x="15883" y="11430"/>
                  <a:pt x="15925" y="11410"/>
                </a:cubicBezTo>
                <a:cubicBezTo>
                  <a:pt x="15973" y="11387"/>
                  <a:pt x="16025" y="11358"/>
                  <a:pt x="16049" y="11336"/>
                </a:cubicBezTo>
                <a:cubicBezTo>
                  <a:pt x="16049" y="11311"/>
                  <a:pt x="16049" y="11303"/>
                  <a:pt x="16073" y="11311"/>
                </a:cubicBezTo>
              </a:path>
              <a:path w="9674" h="3920">
                <a:moveTo>
                  <a:pt x="14784" y="10691"/>
                </a:moveTo>
                <a:cubicBezTo>
                  <a:pt x="14827" y="10619"/>
                  <a:pt x="14951" y="10492"/>
                  <a:pt x="15056" y="10567"/>
                </a:cubicBezTo>
                <a:cubicBezTo>
                  <a:pt x="15160" y="10641"/>
                  <a:pt x="15015" y="10808"/>
                  <a:pt x="14982" y="10864"/>
                </a:cubicBezTo>
                <a:cubicBezTo>
                  <a:pt x="15000" y="10812"/>
                  <a:pt x="15110" y="10811"/>
                  <a:pt x="15131" y="10889"/>
                </a:cubicBezTo>
                <a:cubicBezTo>
                  <a:pt x="15182" y="11077"/>
                  <a:pt x="14961" y="11125"/>
                  <a:pt x="14833" y="11137"/>
                </a:cubicBezTo>
                <a:cubicBezTo>
                  <a:pt x="14825" y="11137"/>
                  <a:pt x="14816" y="11137"/>
                  <a:pt x="14808" y="11137"/>
                </a:cubicBezTo>
              </a:path>
              <a:path w="9674" h="3920">
                <a:moveTo>
                  <a:pt x="12303" y="13643"/>
                </a:moveTo>
                <a:cubicBezTo>
                  <a:pt x="12118" y="13581"/>
                  <a:pt x="12590" y="13483"/>
                  <a:pt x="12774" y="13419"/>
                </a:cubicBezTo>
                <a:cubicBezTo>
                  <a:pt x="12971" y="13350"/>
                  <a:pt x="13196" y="13253"/>
                  <a:pt x="13395" y="13196"/>
                </a:cubicBezTo>
              </a:path>
              <a:path w="9674" h="3920">
                <a:moveTo>
                  <a:pt x="12576" y="13915"/>
                </a:moveTo>
                <a:cubicBezTo>
                  <a:pt x="12576" y="14095"/>
                  <a:pt x="12549" y="14289"/>
                  <a:pt x="12601" y="14461"/>
                </a:cubicBezTo>
                <a:cubicBezTo>
                  <a:pt x="12601" y="14453"/>
                  <a:pt x="12601" y="14444"/>
                  <a:pt x="12601" y="14436"/>
                </a:cubicBezTo>
              </a:path>
              <a:path w="9674" h="3920">
                <a:moveTo>
                  <a:pt x="16694" y="12229"/>
                </a:moveTo>
                <a:cubicBezTo>
                  <a:pt x="16796" y="12214"/>
                  <a:pt x="16891" y="12176"/>
                  <a:pt x="16991" y="12154"/>
                </a:cubicBezTo>
                <a:cubicBezTo>
                  <a:pt x="16999" y="12154"/>
                  <a:pt x="17008" y="12154"/>
                  <a:pt x="17016" y="12154"/>
                </a:cubicBezTo>
              </a:path>
              <a:path w="9674" h="3920">
                <a:moveTo>
                  <a:pt x="17859" y="11237"/>
                </a:moveTo>
                <a:cubicBezTo>
                  <a:pt x="17897" y="11142"/>
                  <a:pt x="18028" y="10979"/>
                  <a:pt x="18132" y="10939"/>
                </a:cubicBezTo>
                <a:cubicBezTo>
                  <a:pt x="18420" y="10828"/>
                  <a:pt x="18248" y="11242"/>
                  <a:pt x="18207" y="11336"/>
                </a:cubicBezTo>
                <a:cubicBezTo>
                  <a:pt x="18207" y="11201"/>
                  <a:pt x="18386" y="11287"/>
                  <a:pt x="18430" y="11361"/>
                </a:cubicBezTo>
                <a:cubicBezTo>
                  <a:pt x="18572" y="11602"/>
                  <a:pt x="18236" y="11690"/>
                  <a:pt x="18083" y="11708"/>
                </a:cubicBezTo>
                <a:cubicBezTo>
                  <a:pt x="18048" y="11708"/>
                  <a:pt x="18044" y="11717"/>
                  <a:pt x="18083" y="11757"/>
                </a:cubicBezTo>
              </a:path>
              <a:path w="9674" h="3920">
                <a:moveTo>
                  <a:pt x="17661" y="12229"/>
                </a:moveTo>
                <a:cubicBezTo>
                  <a:pt x="17673" y="12193"/>
                  <a:pt x="17998" y="12156"/>
                  <a:pt x="18008" y="12154"/>
                </a:cubicBezTo>
                <a:cubicBezTo>
                  <a:pt x="18241" y="12103"/>
                  <a:pt x="18495" y="12017"/>
                  <a:pt x="18728" y="11981"/>
                </a:cubicBezTo>
                <a:cubicBezTo>
                  <a:pt x="18736" y="11981"/>
                  <a:pt x="18744" y="11981"/>
                  <a:pt x="18752" y="11981"/>
                </a:cubicBezTo>
              </a:path>
              <a:path w="9674" h="3920">
                <a:moveTo>
                  <a:pt x="18083" y="12700"/>
                </a:moveTo>
                <a:cubicBezTo>
                  <a:pt x="18071" y="12656"/>
                  <a:pt x="18157" y="12452"/>
                  <a:pt x="18281" y="12452"/>
                </a:cubicBezTo>
                <a:cubicBezTo>
                  <a:pt x="18492" y="12452"/>
                  <a:pt x="18427" y="12752"/>
                  <a:pt x="18355" y="12849"/>
                </a:cubicBezTo>
                <a:cubicBezTo>
                  <a:pt x="18290" y="12892"/>
                  <a:pt x="18261" y="12918"/>
                  <a:pt x="18306" y="12849"/>
                </a:cubicBezTo>
                <a:cubicBezTo>
                  <a:pt x="18485" y="12877"/>
                  <a:pt x="18661" y="12971"/>
                  <a:pt x="18504" y="13196"/>
                </a:cubicBezTo>
                <a:cubicBezTo>
                  <a:pt x="18415" y="13324"/>
                  <a:pt x="18250" y="13370"/>
                  <a:pt x="18107" y="13370"/>
                </a:cubicBezTo>
                <a:cubicBezTo>
                  <a:pt x="18115" y="13370"/>
                  <a:pt x="18124" y="13370"/>
                  <a:pt x="18132" y="13370"/>
                </a:cubicBezTo>
              </a:path>
              <a:path w="9674" h="3920">
                <a:moveTo>
                  <a:pt x="19224" y="12179"/>
                </a:moveTo>
                <a:cubicBezTo>
                  <a:pt x="19322" y="12135"/>
                  <a:pt x="19417" y="12122"/>
                  <a:pt x="19521" y="12105"/>
                </a:cubicBezTo>
                <a:cubicBezTo>
                  <a:pt x="19546" y="12105"/>
                  <a:pt x="19554" y="12105"/>
                  <a:pt x="19546" y="12129"/>
                </a:cubicBezTo>
              </a:path>
              <a:path w="9674" h="3920">
                <a:moveTo>
                  <a:pt x="20241" y="11609"/>
                </a:moveTo>
                <a:cubicBezTo>
                  <a:pt x="20272" y="11513"/>
                  <a:pt x="20300" y="11732"/>
                  <a:pt x="20315" y="11832"/>
                </a:cubicBezTo>
                <a:cubicBezTo>
                  <a:pt x="20340" y="12004"/>
                  <a:pt x="20279" y="12293"/>
                  <a:pt x="20340" y="12452"/>
                </a:cubicBezTo>
                <a:cubicBezTo>
                  <a:pt x="20363" y="12475"/>
                  <a:pt x="20374" y="12483"/>
                  <a:pt x="20340" y="12477"/>
                </a:cubicBezTo>
              </a:path>
              <a:path w="9674" h="3920">
                <a:moveTo>
                  <a:pt x="19794" y="12650"/>
                </a:moveTo>
                <a:cubicBezTo>
                  <a:pt x="19891" y="12687"/>
                  <a:pt x="19989" y="12721"/>
                  <a:pt x="20092" y="12750"/>
                </a:cubicBezTo>
                <a:cubicBezTo>
                  <a:pt x="20346" y="12820"/>
                  <a:pt x="20607" y="12811"/>
                  <a:pt x="20861" y="12725"/>
                </a:cubicBezTo>
                <a:cubicBezTo>
                  <a:pt x="21160" y="12624"/>
                  <a:pt x="21331" y="12347"/>
                  <a:pt x="21382" y="12055"/>
                </a:cubicBezTo>
                <a:cubicBezTo>
                  <a:pt x="21429" y="11786"/>
                  <a:pt x="21393" y="11553"/>
                  <a:pt x="21183" y="11361"/>
                </a:cubicBezTo>
                <a:cubicBezTo>
                  <a:pt x="21011" y="11203"/>
                  <a:pt x="20740" y="11130"/>
                  <a:pt x="20513" y="11112"/>
                </a:cubicBezTo>
                <a:cubicBezTo>
                  <a:pt x="20297" y="11095"/>
                  <a:pt x="20057" y="11090"/>
                  <a:pt x="19869" y="11212"/>
                </a:cubicBezTo>
                <a:cubicBezTo>
                  <a:pt x="19710" y="11316"/>
                  <a:pt x="19547" y="11508"/>
                  <a:pt x="19472" y="11683"/>
                </a:cubicBezTo>
                <a:cubicBezTo>
                  <a:pt x="19381" y="11897"/>
                  <a:pt x="19416" y="12125"/>
                  <a:pt x="19521" y="12328"/>
                </a:cubicBezTo>
                <a:cubicBezTo>
                  <a:pt x="19612" y="12504"/>
                  <a:pt x="19774" y="12615"/>
                  <a:pt x="19943" y="12700"/>
                </a:cubicBezTo>
                <a:cubicBezTo>
                  <a:pt x="19966" y="12723"/>
                  <a:pt x="19970" y="12731"/>
                  <a:pt x="19993" y="1272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599080" y="4599000"/>
            <a:ext cx="36720" cy="196920"/>
          </a:xfrm>
          <a:custGeom>
            <a:avLst/>
            <a:gdLst/>
            <a:ahLst/>
            <a:rect l="l" t="t" r="r" b="b"/>
            <a:pathLst>
              <a:path w="100" h="547">
                <a:moveTo>
                  <a:pt x="15577" y="12774"/>
                </a:moveTo>
                <a:cubicBezTo>
                  <a:pt x="15530" y="12823"/>
                  <a:pt x="15534" y="12862"/>
                  <a:pt x="15602" y="12923"/>
                </a:cubicBezTo>
              </a:path>
              <a:path w="100" h="547">
                <a:moveTo>
                  <a:pt x="15602" y="12923"/>
                </a:moveTo>
                <a:lnTo>
                  <a:pt x="15602" y="12923"/>
                </a:lnTo>
              </a:path>
              <a:path w="100" h="547">
                <a:moveTo>
                  <a:pt x="15652" y="13320"/>
                </a:moveTo>
                <a:lnTo>
                  <a:pt x="15652" y="13320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68960" y="4581360"/>
            <a:ext cx="598320" cy="517680"/>
          </a:xfrm>
          <a:custGeom>
            <a:avLst/>
            <a:gdLst/>
            <a:ahLst/>
            <a:rect l="l" t="t" r="r" b="b"/>
            <a:pathLst>
              <a:path w="1663" h="1439">
                <a:moveTo>
                  <a:pt x="15850" y="12923"/>
                </a:moveTo>
                <a:cubicBezTo>
                  <a:pt x="15926" y="13013"/>
                  <a:pt x="15991" y="12980"/>
                  <a:pt x="16098" y="13022"/>
                </a:cubicBezTo>
                <a:cubicBezTo>
                  <a:pt x="16246" y="13081"/>
                  <a:pt x="16060" y="13128"/>
                  <a:pt x="15974" y="13097"/>
                </a:cubicBezTo>
              </a:path>
              <a:path w="1663" h="1439">
                <a:moveTo>
                  <a:pt x="15850" y="12874"/>
                </a:moveTo>
                <a:cubicBezTo>
                  <a:pt x="15868" y="12864"/>
                  <a:pt x="16230" y="12687"/>
                  <a:pt x="16073" y="12750"/>
                </a:cubicBezTo>
              </a:path>
              <a:path w="1663" h="1439">
                <a:moveTo>
                  <a:pt x="14635" y="13494"/>
                </a:moveTo>
                <a:cubicBezTo>
                  <a:pt x="15063" y="13308"/>
                  <a:pt x="15473" y="13081"/>
                  <a:pt x="15925" y="12948"/>
                </a:cubicBezTo>
                <a:cubicBezTo>
                  <a:pt x="16132" y="12906"/>
                  <a:pt x="16173" y="12898"/>
                  <a:pt x="16297" y="12874"/>
                </a:cubicBezTo>
              </a:path>
              <a:path w="1663" h="1439">
                <a:moveTo>
                  <a:pt x="14833" y="13692"/>
                </a:moveTo>
                <a:cubicBezTo>
                  <a:pt x="14833" y="13619"/>
                  <a:pt x="14915" y="13567"/>
                  <a:pt x="14982" y="13543"/>
                </a:cubicBezTo>
                <a:cubicBezTo>
                  <a:pt x="14999" y="13543"/>
                  <a:pt x="15015" y="13543"/>
                  <a:pt x="15032" y="13543"/>
                </a:cubicBezTo>
                <a:cubicBezTo>
                  <a:pt x="15099" y="13656"/>
                  <a:pt x="15089" y="13759"/>
                  <a:pt x="14982" y="13866"/>
                </a:cubicBezTo>
                <a:cubicBezTo>
                  <a:pt x="14965" y="13874"/>
                  <a:pt x="14949" y="13883"/>
                  <a:pt x="14932" y="13891"/>
                </a:cubicBezTo>
                <a:cubicBezTo>
                  <a:pt x="14951" y="13814"/>
                  <a:pt x="15127" y="13772"/>
                  <a:pt x="15180" y="13841"/>
                </a:cubicBezTo>
                <a:cubicBezTo>
                  <a:pt x="15299" y="13995"/>
                  <a:pt x="14989" y="14140"/>
                  <a:pt x="14908" y="14163"/>
                </a:cubicBezTo>
                <a:cubicBezTo>
                  <a:pt x="14862" y="14176"/>
                  <a:pt x="14860" y="14173"/>
                  <a:pt x="14883" y="1413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60920" y="4749840"/>
            <a:ext cx="54000" cy="162000"/>
          </a:xfrm>
          <a:custGeom>
            <a:avLst/>
            <a:gdLst/>
            <a:ahLst/>
            <a:rect l="l" t="t" r="r" b="b"/>
            <a:pathLst>
              <a:path w="150" h="448">
                <a:moveTo>
                  <a:pt x="12948" y="13196"/>
                </a:moveTo>
                <a:cubicBezTo>
                  <a:pt x="12948" y="13204"/>
                  <a:pt x="12948" y="13213"/>
                  <a:pt x="12948" y="13221"/>
                </a:cubicBezTo>
              </a:path>
              <a:path w="150" h="448">
                <a:moveTo>
                  <a:pt x="12948" y="13221"/>
                </a:moveTo>
                <a:lnTo>
                  <a:pt x="12948" y="13221"/>
                </a:lnTo>
              </a:path>
              <a:path w="150" h="448">
                <a:moveTo>
                  <a:pt x="13097" y="13643"/>
                </a:moveTo>
                <a:cubicBezTo>
                  <a:pt x="13097" y="13635"/>
                  <a:pt x="13097" y="13626"/>
                  <a:pt x="13097" y="1361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Unit 9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:  Students will divide fractions and mixed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02040" y="5187960"/>
            <a:ext cx="2536920" cy="54000"/>
          </a:xfrm>
          <a:custGeom>
            <a:avLst/>
            <a:gdLst/>
            <a:ahLst/>
            <a:rect l="l" t="t" r="r" b="b"/>
            <a:pathLst>
              <a:path w="7045" h="149">
                <a:moveTo>
                  <a:pt x="10840" y="14486"/>
                </a:moveTo>
                <a:cubicBezTo>
                  <a:pt x="10931" y="14477"/>
                  <a:pt x="11013" y="14455"/>
                  <a:pt x="11112" y="14461"/>
                </a:cubicBezTo>
                <a:cubicBezTo>
                  <a:pt x="11231" y="14469"/>
                  <a:pt x="11339" y="14484"/>
                  <a:pt x="11460" y="14486"/>
                </a:cubicBezTo>
                <a:cubicBezTo>
                  <a:pt x="11627" y="14489"/>
                  <a:pt x="11795" y="14504"/>
                  <a:pt x="11956" y="14511"/>
                </a:cubicBezTo>
                <a:cubicBezTo>
                  <a:pt x="12105" y="14518"/>
                  <a:pt x="12283" y="14541"/>
                  <a:pt x="12427" y="14536"/>
                </a:cubicBezTo>
                <a:cubicBezTo>
                  <a:pt x="12530" y="14532"/>
                  <a:pt x="12641" y="14513"/>
                  <a:pt x="12750" y="14511"/>
                </a:cubicBezTo>
                <a:cubicBezTo>
                  <a:pt x="12928" y="14508"/>
                  <a:pt x="13096" y="14528"/>
                  <a:pt x="13271" y="14536"/>
                </a:cubicBezTo>
                <a:cubicBezTo>
                  <a:pt x="13422" y="14543"/>
                  <a:pt x="13568" y="14552"/>
                  <a:pt x="13717" y="14560"/>
                </a:cubicBezTo>
                <a:cubicBezTo>
                  <a:pt x="13862" y="14568"/>
                  <a:pt x="13999" y="14542"/>
                  <a:pt x="14139" y="14536"/>
                </a:cubicBezTo>
                <a:cubicBezTo>
                  <a:pt x="14291" y="14530"/>
                  <a:pt x="14434" y="14557"/>
                  <a:pt x="14585" y="14560"/>
                </a:cubicBezTo>
                <a:cubicBezTo>
                  <a:pt x="14852" y="14565"/>
                  <a:pt x="15115" y="14550"/>
                  <a:pt x="15379" y="14536"/>
                </a:cubicBezTo>
                <a:cubicBezTo>
                  <a:pt x="15603" y="14524"/>
                  <a:pt x="15823" y="14511"/>
                  <a:pt x="16049" y="14511"/>
                </a:cubicBezTo>
                <a:cubicBezTo>
                  <a:pt x="16307" y="14511"/>
                  <a:pt x="16562" y="14473"/>
                  <a:pt x="16818" y="14461"/>
                </a:cubicBezTo>
                <a:cubicBezTo>
                  <a:pt x="17009" y="14452"/>
                  <a:pt x="17199" y="14447"/>
                  <a:pt x="17388" y="14436"/>
                </a:cubicBezTo>
                <a:cubicBezTo>
                  <a:pt x="17530" y="14427"/>
                  <a:pt x="17720" y="14404"/>
                  <a:pt x="17859" y="14412"/>
                </a:cubicBezTo>
                <a:cubicBezTo>
                  <a:pt x="17884" y="14412"/>
                  <a:pt x="17892" y="14412"/>
                  <a:pt x="17884" y="1443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99"/>
                </a:solidFill>
                <a:latin typeface="Times New Roman"/>
              </a:rPr>
              <a:t>Mixed Numbers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nge to improper fractions first, then follow previous ste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33520" y="3352680"/>
          <a:ext cx="1390680" cy="84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352680"/>
                    <a:ext cx="1390680" cy="8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3581280" y="3255840"/>
          <a:ext cx="1600200" cy="93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1280" y="3255840"/>
                    <a:ext cx="160020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7010280" y="3200400"/>
          <a:ext cx="1067040" cy="944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10280" y="3200400"/>
                    <a:ext cx="106704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214200" y="3187800"/>
            <a:ext cx="536760" cy="376200"/>
          </a:xfrm>
          <a:custGeom>
            <a:avLst/>
            <a:gdLst/>
            <a:ahLst/>
            <a:rect l="l" t="t" r="r" b="b"/>
            <a:pathLst>
              <a:path w="1490" h="1043">
                <a:moveTo>
                  <a:pt x="1067" y="9004"/>
                </a:moveTo>
                <a:cubicBezTo>
                  <a:pt x="1067" y="9157"/>
                  <a:pt x="1096" y="9300"/>
                  <a:pt x="1116" y="9451"/>
                </a:cubicBezTo>
                <a:cubicBezTo>
                  <a:pt x="1116" y="9459"/>
                  <a:pt x="1116" y="9467"/>
                  <a:pt x="1116" y="9475"/>
                </a:cubicBezTo>
              </a:path>
              <a:path w="1490" h="1043">
                <a:moveTo>
                  <a:pt x="595" y="9500"/>
                </a:moveTo>
                <a:cubicBezTo>
                  <a:pt x="623" y="9641"/>
                  <a:pt x="731" y="9761"/>
                  <a:pt x="893" y="9773"/>
                </a:cubicBezTo>
                <a:cubicBezTo>
                  <a:pt x="1122" y="9790"/>
                  <a:pt x="1354" y="9606"/>
                  <a:pt x="1439" y="9401"/>
                </a:cubicBezTo>
                <a:cubicBezTo>
                  <a:pt x="1516" y="9214"/>
                  <a:pt x="1365" y="8961"/>
                  <a:pt x="1191" y="8880"/>
                </a:cubicBezTo>
                <a:cubicBezTo>
                  <a:pt x="1065" y="8821"/>
                  <a:pt x="835" y="8879"/>
                  <a:pt x="744" y="8979"/>
                </a:cubicBezTo>
                <a:cubicBezTo>
                  <a:pt x="610" y="9125"/>
                  <a:pt x="554" y="9518"/>
                  <a:pt x="595" y="9699"/>
                </a:cubicBezTo>
                <a:cubicBezTo>
                  <a:pt x="629" y="9848"/>
                  <a:pt x="774" y="9898"/>
                  <a:pt x="893" y="9872"/>
                </a:cubicBezTo>
              </a:path>
              <a:path w="1490" h="1043">
                <a:moveTo>
                  <a:pt x="1960" y="9277"/>
                </a:moveTo>
                <a:cubicBezTo>
                  <a:pt x="1960" y="9351"/>
                  <a:pt x="1960" y="9426"/>
                  <a:pt x="1960" y="9500"/>
                </a:cubicBezTo>
              </a:path>
              <a:path w="1490" h="1043">
                <a:moveTo>
                  <a:pt x="1786" y="9500"/>
                </a:moveTo>
                <a:cubicBezTo>
                  <a:pt x="1845" y="9456"/>
                  <a:pt x="1912" y="9485"/>
                  <a:pt x="1984" y="9451"/>
                </a:cubicBezTo>
                <a:cubicBezTo>
                  <a:pt x="2022" y="9433"/>
                  <a:pt x="2036" y="9426"/>
                  <a:pt x="2084" y="942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7880" y="3894120"/>
            <a:ext cx="81000" cy="142920"/>
          </a:xfrm>
          <a:custGeom>
            <a:avLst/>
            <a:gdLst/>
            <a:ahLst/>
            <a:rect l="l" t="t" r="r" b="b"/>
            <a:pathLst>
              <a:path w="224" h="398">
                <a:moveTo>
                  <a:pt x="1960" y="10815"/>
                </a:moveTo>
                <a:cubicBezTo>
                  <a:pt x="1945" y="10913"/>
                  <a:pt x="2032" y="10960"/>
                  <a:pt x="2059" y="11063"/>
                </a:cubicBezTo>
                <a:cubicBezTo>
                  <a:pt x="2059" y="11107"/>
                  <a:pt x="2056" y="11121"/>
                  <a:pt x="2084" y="11137"/>
                </a:cubicBezTo>
              </a:path>
              <a:path w="224" h="398">
                <a:moveTo>
                  <a:pt x="2108" y="10914"/>
                </a:moveTo>
                <a:cubicBezTo>
                  <a:pt x="2061" y="10938"/>
                  <a:pt x="1997" y="11034"/>
                  <a:pt x="1960" y="11088"/>
                </a:cubicBezTo>
                <a:cubicBezTo>
                  <a:pt x="1940" y="11128"/>
                  <a:pt x="1941" y="11144"/>
                  <a:pt x="1910" y="11137"/>
                </a:cubicBezTo>
                <a:cubicBezTo>
                  <a:pt x="1910" y="11191"/>
                  <a:pt x="1898" y="11174"/>
                  <a:pt x="1885" y="1121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5960" y="4473720"/>
            <a:ext cx="615960" cy="571320"/>
          </a:xfrm>
          <a:custGeom>
            <a:avLst/>
            <a:gdLst/>
            <a:ahLst/>
            <a:rect l="l" t="t" r="r" b="b"/>
            <a:pathLst>
              <a:path w="1712" h="1589">
                <a:moveTo>
                  <a:pt x="1860" y="12551"/>
                </a:moveTo>
                <a:cubicBezTo>
                  <a:pt x="1869" y="12516"/>
                  <a:pt x="1911" y="12433"/>
                  <a:pt x="1960" y="12502"/>
                </a:cubicBezTo>
                <a:cubicBezTo>
                  <a:pt x="2027" y="12597"/>
                  <a:pt x="1934" y="12726"/>
                  <a:pt x="1885" y="12799"/>
                </a:cubicBezTo>
                <a:cubicBezTo>
                  <a:pt x="1838" y="12869"/>
                  <a:pt x="1793" y="12891"/>
                  <a:pt x="1736" y="12948"/>
                </a:cubicBezTo>
                <a:cubicBezTo>
                  <a:pt x="1811" y="12911"/>
                  <a:pt x="1838" y="12885"/>
                  <a:pt x="1910" y="12923"/>
                </a:cubicBezTo>
                <a:cubicBezTo>
                  <a:pt x="1981" y="12961"/>
                  <a:pt x="2012" y="12959"/>
                  <a:pt x="2084" y="12948"/>
                </a:cubicBezTo>
                <a:cubicBezTo>
                  <a:pt x="2092" y="12948"/>
                  <a:pt x="2100" y="12948"/>
                  <a:pt x="2108" y="12948"/>
                </a:cubicBezTo>
              </a:path>
              <a:path w="1712" h="1589">
                <a:moveTo>
                  <a:pt x="2158" y="12551"/>
                </a:moveTo>
                <a:cubicBezTo>
                  <a:pt x="2177" y="12477"/>
                  <a:pt x="2264" y="12461"/>
                  <a:pt x="2332" y="12427"/>
                </a:cubicBezTo>
                <a:cubicBezTo>
                  <a:pt x="2392" y="12504"/>
                  <a:pt x="2407" y="12569"/>
                  <a:pt x="2332" y="12650"/>
                </a:cubicBezTo>
                <a:cubicBezTo>
                  <a:pt x="2324" y="12650"/>
                  <a:pt x="2315" y="12650"/>
                  <a:pt x="2307" y="12650"/>
                </a:cubicBezTo>
                <a:cubicBezTo>
                  <a:pt x="2385" y="12650"/>
                  <a:pt x="2525" y="12639"/>
                  <a:pt x="2480" y="12774"/>
                </a:cubicBezTo>
                <a:cubicBezTo>
                  <a:pt x="2454" y="12852"/>
                  <a:pt x="2350" y="12874"/>
                  <a:pt x="2282" y="12874"/>
                </a:cubicBezTo>
              </a:path>
              <a:path w="1712" h="1589">
                <a:moveTo>
                  <a:pt x="1712" y="13171"/>
                </a:moveTo>
                <a:cubicBezTo>
                  <a:pt x="1860" y="13150"/>
                  <a:pt x="2008" y="13109"/>
                  <a:pt x="2158" y="13097"/>
                </a:cubicBezTo>
                <a:cubicBezTo>
                  <a:pt x="2291" y="13087"/>
                  <a:pt x="2421" y="13122"/>
                  <a:pt x="2555" y="13122"/>
                </a:cubicBezTo>
                <a:cubicBezTo>
                  <a:pt x="2583" y="13122"/>
                  <a:pt x="2593" y="13124"/>
                  <a:pt x="2604" y="13146"/>
                </a:cubicBezTo>
              </a:path>
              <a:path w="1712" h="1589">
                <a:moveTo>
                  <a:pt x="2084" y="13395"/>
                </a:moveTo>
                <a:cubicBezTo>
                  <a:pt x="2070" y="13490"/>
                  <a:pt x="2033" y="13576"/>
                  <a:pt x="2009" y="13667"/>
                </a:cubicBezTo>
                <a:cubicBezTo>
                  <a:pt x="2009" y="13675"/>
                  <a:pt x="2009" y="13684"/>
                  <a:pt x="2009" y="13692"/>
                </a:cubicBezTo>
                <a:cubicBezTo>
                  <a:pt x="2110" y="13664"/>
                  <a:pt x="2200" y="13606"/>
                  <a:pt x="2307" y="13593"/>
                </a:cubicBezTo>
                <a:cubicBezTo>
                  <a:pt x="2315" y="13593"/>
                  <a:pt x="2324" y="13593"/>
                  <a:pt x="2332" y="13593"/>
                </a:cubicBezTo>
              </a:path>
              <a:path w="1712" h="1589">
                <a:moveTo>
                  <a:pt x="2282" y="13271"/>
                </a:moveTo>
                <a:cubicBezTo>
                  <a:pt x="2282" y="13472"/>
                  <a:pt x="2293" y="13667"/>
                  <a:pt x="2307" y="13866"/>
                </a:cubicBezTo>
                <a:cubicBezTo>
                  <a:pt x="2310" y="13914"/>
                  <a:pt x="2307" y="13966"/>
                  <a:pt x="2307" y="14015"/>
                </a:cubicBezTo>
              </a:path>
              <a:path w="1712" h="1589">
                <a:moveTo>
                  <a:pt x="2977" y="13122"/>
                </a:moveTo>
                <a:cubicBezTo>
                  <a:pt x="2969" y="13122"/>
                  <a:pt x="2960" y="13122"/>
                  <a:pt x="2952" y="13122"/>
                </a:cubicBezTo>
                <a:cubicBezTo>
                  <a:pt x="2969" y="13070"/>
                  <a:pt x="3187" y="13031"/>
                  <a:pt x="3225" y="13022"/>
                </a:cubicBezTo>
                <a:cubicBezTo>
                  <a:pt x="3303" y="13003"/>
                  <a:pt x="3350" y="12998"/>
                  <a:pt x="3423" y="1299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74800" y="4616280"/>
            <a:ext cx="295200" cy="1117800"/>
          </a:xfrm>
          <a:custGeom>
            <a:avLst/>
            <a:gdLst/>
            <a:ahLst/>
            <a:rect l="l" t="t" r="r" b="b"/>
            <a:pathLst>
              <a:path w="819" h="3102">
                <a:moveTo>
                  <a:pt x="3175" y="12849"/>
                </a:moveTo>
                <a:cubicBezTo>
                  <a:pt x="3175" y="12841"/>
                  <a:pt x="3175" y="12832"/>
                  <a:pt x="3175" y="12824"/>
                </a:cubicBezTo>
              </a:path>
              <a:path w="819" h="3102">
                <a:moveTo>
                  <a:pt x="3249" y="13295"/>
                </a:moveTo>
                <a:cubicBezTo>
                  <a:pt x="3249" y="13303"/>
                  <a:pt x="3249" y="13312"/>
                  <a:pt x="3249" y="13320"/>
                </a:cubicBezTo>
              </a:path>
              <a:path w="819" h="3102">
                <a:moveTo>
                  <a:pt x="2431" y="15652"/>
                </a:moveTo>
                <a:cubicBezTo>
                  <a:pt x="2431" y="15644"/>
                  <a:pt x="2431" y="15635"/>
                  <a:pt x="2431" y="15627"/>
                </a:cubicBezTo>
              </a:path>
              <a:path w="819" h="3102">
                <a:moveTo>
                  <a:pt x="2431" y="15925"/>
                </a:moveTo>
                <a:lnTo>
                  <a:pt x="2431" y="15925"/>
                </a:lnTo>
                <a:lnTo>
                  <a:pt x="2431" y="15925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85920" y="3384720"/>
            <a:ext cx="81000" cy="88560"/>
          </a:xfrm>
          <a:custGeom>
            <a:avLst/>
            <a:gdLst/>
            <a:ahLst/>
            <a:rect l="l" t="t" r="r" b="b"/>
            <a:pathLst>
              <a:path w="224" h="249">
                <a:moveTo>
                  <a:pt x="3671" y="9401"/>
                </a:moveTo>
                <a:cubicBezTo>
                  <a:pt x="3671" y="9483"/>
                  <a:pt x="3680" y="9548"/>
                  <a:pt x="3696" y="9624"/>
                </a:cubicBezTo>
                <a:cubicBezTo>
                  <a:pt x="3696" y="9632"/>
                  <a:pt x="3696" y="9641"/>
                  <a:pt x="3696" y="9649"/>
                </a:cubicBezTo>
              </a:path>
              <a:path w="224" h="249">
                <a:moveTo>
                  <a:pt x="3572" y="9575"/>
                </a:moveTo>
                <a:cubicBezTo>
                  <a:pt x="3633" y="9563"/>
                  <a:pt x="3679" y="9550"/>
                  <a:pt x="3746" y="9550"/>
                </a:cubicBezTo>
                <a:cubicBezTo>
                  <a:pt x="3762" y="9550"/>
                  <a:pt x="3779" y="9550"/>
                  <a:pt x="3795" y="955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03200" y="3919680"/>
            <a:ext cx="54000" cy="98280"/>
          </a:xfrm>
          <a:custGeom>
            <a:avLst/>
            <a:gdLst/>
            <a:ahLst/>
            <a:rect l="l" t="t" r="r" b="b"/>
            <a:pathLst>
              <a:path w="150" h="274">
                <a:moveTo>
                  <a:pt x="3646" y="10914"/>
                </a:moveTo>
                <a:cubicBezTo>
                  <a:pt x="3646" y="10922"/>
                  <a:pt x="3646" y="10931"/>
                  <a:pt x="3646" y="10939"/>
                </a:cubicBezTo>
                <a:cubicBezTo>
                  <a:pt x="3689" y="10965"/>
                  <a:pt x="3709" y="11026"/>
                  <a:pt x="3746" y="11038"/>
                </a:cubicBezTo>
              </a:path>
              <a:path w="150" h="274">
                <a:moveTo>
                  <a:pt x="3770" y="10889"/>
                </a:moveTo>
                <a:cubicBezTo>
                  <a:pt x="3711" y="10960"/>
                  <a:pt x="3685" y="11030"/>
                  <a:pt x="3646" y="11112"/>
                </a:cubicBezTo>
                <a:cubicBezTo>
                  <a:pt x="3638" y="11129"/>
                  <a:pt x="3629" y="11145"/>
                  <a:pt x="3621" y="1116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5960" y="4429080"/>
            <a:ext cx="1108080" cy="1509840"/>
          </a:xfrm>
          <a:custGeom>
            <a:avLst/>
            <a:gdLst/>
            <a:ahLst/>
            <a:rect l="l" t="t" r="r" b="b"/>
            <a:pathLst>
              <a:path w="3076" h="4193">
                <a:moveTo>
                  <a:pt x="3870" y="12427"/>
                </a:moveTo>
                <a:cubicBezTo>
                  <a:pt x="3870" y="12369"/>
                  <a:pt x="3870" y="12493"/>
                  <a:pt x="3870" y="12551"/>
                </a:cubicBezTo>
                <a:cubicBezTo>
                  <a:pt x="3870" y="12617"/>
                  <a:pt x="3870" y="12684"/>
                  <a:pt x="3870" y="12750"/>
                </a:cubicBezTo>
              </a:path>
              <a:path w="3076" h="4193">
                <a:moveTo>
                  <a:pt x="4118" y="12303"/>
                </a:moveTo>
                <a:cubicBezTo>
                  <a:pt x="4134" y="12386"/>
                  <a:pt x="4142" y="12462"/>
                  <a:pt x="4142" y="12551"/>
                </a:cubicBezTo>
                <a:cubicBezTo>
                  <a:pt x="4142" y="12601"/>
                  <a:pt x="4142" y="12650"/>
                  <a:pt x="4142" y="12700"/>
                </a:cubicBezTo>
              </a:path>
              <a:path w="3076" h="4193">
                <a:moveTo>
                  <a:pt x="3721" y="13022"/>
                </a:moveTo>
                <a:cubicBezTo>
                  <a:pt x="3838" y="13022"/>
                  <a:pt x="3950" y="13001"/>
                  <a:pt x="4068" y="12998"/>
                </a:cubicBezTo>
                <a:cubicBezTo>
                  <a:pt x="4142" y="12996"/>
                  <a:pt x="4217" y="12998"/>
                  <a:pt x="4291" y="12998"/>
                </a:cubicBezTo>
              </a:path>
              <a:path w="3076" h="4193">
                <a:moveTo>
                  <a:pt x="4093" y="13320"/>
                </a:moveTo>
                <a:cubicBezTo>
                  <a:pt x="4025" y="13294"/>
                  <a:pt x="4008" y="13249"/>
                  <a:pt x="3919" y="13271"/>
                </a:cubicBezTo>
                <a:cubicBezTo>
                  <a:pt x="3833" y="13292"/>
                  <a:pt x="3779" y="13385"/>
                  <a:pt x="3795" y="13469"/>
                </a:cubicBezTo>
                <a:cubicBezTo>
                  <a:pt x="3808" y="13539"/>
                  <a:pt x="4010" y="13602"/>
                  <a:pt x="4068" y="13643"/>
                </a:cubicBezTo>
                <a:cubicBezTo>
                  <a:pt x="4108" y="13671"/>
                  <a:pt x="4259" y="13798"/>
                  <a:pt x="4118" y="13841"/>
                </a:cubicBezTo>
                <a:cubicBezTo>
                  <a:pt x="4069" y="13856"/>
                  <a:pt x="3974" y="13841"/>
                  <a:pt x="3919" y="13841"/>
                </a:cubicBezTo>
                <a:cubicBezTo>
                  <a:pt x="3898" y="13736"/>
                  <a:pt x="3909" y="13698"/>
                  <a:pt x="3969" y="13593"/>
                </a:cubicBezTo>
                <a:cubicBezTo>
                  <a:pt x="4016" y="13509"/>
                  <a:pt x="4095" y="13463"/>
                  <a:pt x="4118" y="13370"/>
                </a:cubicBezTo>
                <a:cubicBezTo>
                  <a:pt x="4128" y="13330"/>
                  <a:pt x="4093" y="13345"/>
                  <a:pt x="4068" y="13345"/>
                </a:cubicBezTo>
              </a:path>
              <a:path w="3076" h="4193">
                <a:moveTo>
                  <a:pt x="2034" y="14660"/>
                </a:moveTo>
                <a:cubicBezTo>
                  <a:pt x="2056" y="14605"/>
                  <a:pt x="2082" y="14593"/>
                  <a:pt x="2133" y="14560"/>
                </a:cubicBezTo>
                <a:cubicBezTo>
                  <a:pt x="2258" y="14684"/>
                  <a:pt x="2215" y="14854"/>
                  <a:pt x="2084" y="14982"/>
                </a:cubicBezTo>
                <a:cubicBezTo>
                  <a:pt x="1977" y="15087"/>
                  <a:pt x="1923" y="15104"/>
                  <a:pt x="1811" y="15056"/>
                </a:cubicBezTo>
                <a:cubicBezTo>
                  <a:pt x="1865" y="14981"/>
                  <a:pt x="1966" y="14934"/>
                  <a:pt x="2059" y="15007"/>
                </a:cubicBezTo>
                <a:cubicBezTo>
                  <a:pt x="2096" y="15063"/>
                  <a:pt x="2113" y="15067"/>
                  <a:pt x="2108" y="15106"/>
                </a:cubicBezTo>
              </a:path>
              <a:path w="3076" h="4193">
                <a:moveTo>
                  <a:pt x="2406" y="14560"/>
                </a:moveTo>
                <a:cubicBezTo>
                  <a:pt x="2426" y="14483"/>
                  <a:pt x="2483" y="14493"/>
                  <a:pt x="2555" y="14486"/>
                </a:cubicBezTo>
                <a:cubicBezTo>
                  <a:pt x="2555" y="14593"/>
                  <a:pt x="2544" y="14604"/>
                  <a:pt x="2456" y="14660"/>
                </a:cubicBezTo>
                <a:cubicBezTo>
                  <a:pt x="2556" y="14660"/>
                  <a:pt x="2641" y="14672"/>
                  <a:pt x="2604" y="14808"/>
                </a:cubicBezTo>
                <a:cubicBezTo>
                  <a:pt x="2570" y="14932"/>
                  <a:pt x="2456" y="14932"/>
                  <a:pt x="2356" y="14932"/>
                </a:cubicBezTo>
              </a:path>
              <a:path w="3076" h="4193">
                <a:moveTo>
                  <a:pt x="1712" y="15180"/>
                </a:moveTo>
                <a:cubicBezTo>
                  <a:pt x="1962" y="15180"/>
                  <a:pt x="2207" y="15192"/>
                  <a:pt x="2456" y="15205"/>
                </a:cubicBezTo>
                <a:cubicBezTo>
                  <a:pt x="2556" y="15210"/>
                  <a:pt x="2574" y="15214"/>
                  <a:pt x="2654" y="15230"/>
                </a:cubicBezTo>
              </a:path>
              <a:path w="3076" h="4193">
                <a:moveTo>
                  <a:pt x="2059" y="15379"/>
                </a:moveTo>
                <a:cubicBezTo>
                  <a:pt x="2045" y="15480"/>
                  <a:pt x="2007" y="15540"/>
                  <a:pt x="1960" y="15627"/>
                </a:cubicBezTo>
                <a:cubicBezTo>
                  <a:pt x="2064" y="15627"/>
                  <a:pt x="2156" y="15637"/>
                  <a:pt x="2257" y="15652"/>
                </a:cubicBezTo>
              </a:path>
              <a:path w="3076" h="4193">
                <a:moveTo>
                  <a:pt x="2232" y="15354"/>
                </a:moveTo>
                <a:cubicBezTo>
                  <a:pt x="2207" y="15482"/>
                  <a:pt x="2180" y="15618"/>
                  <a:pt x="2158" y="15751"/>
                </a:cubicBezTo>
                <a:cubicBezTo>
                  <a:pt x="2143" y="15840"/>
                  <a:pt x="2133" y="15892"/>
                  <a:pt x="2133" y="15974"/>
                </a:cubicBezTo>
              </a:path>
              <a:path w="3076" h="4193">
                <a:moveTo>
                  <a:pt x="3101" y="15007"/>
                </a:moveTo>
                <a:cubicBezTo>
                  <a:pt x="3121" y="14965"/>
                  <a:pt x="3228" y="15140"/>
                  <a:pt x="3249" y="15180"/>
                </a:cubicBezTo>
                <a:cubicBezTo>
                  <a:pt x="3276" y="15231"/>
                  <a:pt x="3307" y="15303"/>
                  <a:pt x="3324" y="15354"/>
                </a:cubicBezTo>
              </a:path>
              <a:path w="3076" h="4193">
                <a:moveTo>
                  <a:pt x="3398" y="14932"/>
                </a:moveTo>
                <a:cubicBezTo>
                  <a:pt x="3340" y="15033"/>
                  <a:pt x="3225" y="15128"/>
                  <a:pt x="3150" y="15230"/>
                </a:cubicBezTo>
                <a:cubicBezTo>
                  <a:pt x="3111" y="15283"/>
                  <a:pt x="3040" y="15322"/>
                  <a:pt x="3026" y="15379"/>
                </a:cubicBezTo>
              </a:path>
              <a:path w="3076" h="4193">
                <a:moveTo>
                  <a:pt x="4142" y="14486"/>
                </a:moveTo>
                <a:cubicBezTo>
                  <a:pt x="4082" y="14449"/>
                  <a:pt x="3989" y="14448"/>
                  <a:pt x="3919" y="14486"/>
                </a:cubicBezTo>
                <a:cubicBezTo>
                  <a:pt x="3861" y="14518"/>
                  <a:pt x="3824" y="14629"/>
                  <a:pt x="3870" y="14684"/>
                </a:cubicBezTo>
                <a:cubicBezTo>
                  <a:pt x="3898" y="14717"/>
                  <a:pt x="4108" y="14875"/>
                  <a:pt x="4043" y="14957"/>
                </a:cubicBezTo>
                <a:cubicBezTo>
                  <a:pt x="4027" y="14965"/>
                  <a:pt x="4010" y="14974"/>
                  <a:pt x="3994" y="14982"/>
                </a:cubicBezTo>
                <a:cubicBezTo>
                  <a:pt x="3954" y="14943"/>
                  <a:pt x="3850" y="14853"/>
                  <a:pt x="3870" y="14784"/>
                </a:cubicBezTo>
                <a:cubicBezTo>
                  <a:pt x="3902" y="14672"/>
                  <a:pt x="4090" y="14647"/>
                  <a:pt x="4142" y="14560"/>
                </a:cubicBezTo>
                <a:cubicBezTo>
                  <a:pt x="4173" y="14509"/>
                  <a:pt x="4224" y="14391"/>
                  <a:pt x="4118" y="14436"/>
                </a:cubicBezTo>
                <a:cubicBezTo>
                  <a:pt x="4110" y="14444"/>
                  <a:pt x="4101" y="14453"/>
                  <a:pt x="4093" y="14461"/>
                </a:cubicBezTo>
              </a:path>
              <a:path w="3076" h="4193">
                <a:moveTo>
                  <a:pt x="3671" y="15230"/>
                </a:moveTo>
                <a:cubicBezTo>
                  <a:pt x="3834" y="15215"/>
                  <a:pt x="4006" y="15200"/>
                  <a:pt x="4167" y="15180"/>
                </a:cubicBezTo>
                <a:cubicBezTo>
                  <a:pt x="4241" y="15162"/>
                  <a:pt x="4274" y="15128"/>
                  <a:pt x="4266" y="15180"/>
                </a:cubicBezTo>
              </a:path>
              <a:path w="3076" h="4193">
                <a:moveTo>
                  <a:pt x="3696" y="15453"/>
                </a:moveTo>
                <a:cubicBezTo>
                  <a:pt x="3696" y="15583"/>
                  <a:pt x="3691" y="15725"/>
                  <a:pt x="3646" y="15850"/>
                </a:cubicBezTo>
                <a:cubicBezTo>
                  <a:pt x="3638" y="15858"/>
                  <a:pt x="3629" y="15867"/>
                  <a:pt x="3621" y="15875"/>
                </a:cubicBezTo>
              </a:path>
              <a:path w="3076" h="4193">
                <a:moveTo>
                  <a:pt x="4043" y="15503"/>
                </a:moveTo>
                <a:cubicBezTo>
                  <a:pt x="4051" y="15495"/>
                  <a:pt x="4060" y="15486"/>
                  <a:pt x="4068" y="15478"/>
                </a:cubicBezTo>
                <a:cubicBezTo>
                  <a:pt x="4052" y="15591"/>
                  <a:pt x="4038" y="15714"/>
                  <a:pt x="4018" y="15825"/>
                </a:cubicBezTo>
                <a:cubicBezTo>
                  <a:pt x="3997" y="15891"/>
                  <a:pt x="3989" y="15906"/>
                  <a:pt x="3994" y="15949"/>
                </a:cubicBezTo>
              </a:path>
              <a:path w="3076" h="4193">
                <a:moveTo>
                  <a:pt x="2406" y="15751"/>
                </a:moveTo>
                <a:cubicBezTo>
                  <a:pt x="2460" y="15751"/>
                  <a:pt x="2485" y="15731"/>
                  <a:pt x="2530" y="15726"/>
                </a:cubicBezTo>
                <a:cubicBezTo>
                  <a:pt x="2538" y="15726"/>
                  <a:pt x="2547" y="15726"/>
                  <a:pt x="2555" y="15726"/>
                </a:cubicBezTo>
              </a:path>
              <a:path w="3076" h="4193">
                <a:moveTo>
                  <a:pt x="2679" y="15652"/>
                </a:moveTo>
                <a:cubicBezTo>
                  <a:pt x="2654" y="15701"/>
                  <a:pt x="2645" y="15718"/>
                  <a:pt x="2629" y="15751"/>
                </a:cubicBezTo>
                <a:cubicBezTo>
                  <a:pt x="2679" y="15751"/>
                  <a:pt x="2728" y="15751"/>
                  <a:pt x="2778" y="15751"/>
                </a:cubicBezTo>
              </a:path>
              <a:path w="3076" h="4193">
                <a:moveTo>
                  <a:pt x="2778" y="15602"/>
                </a:moveTo>
                <a:cubicBezTo>
                  <a:pt x="2761" y="15704"/>
                  <a:pt x="2753" y="15794"/>
                  <a:pt x="2753" y="15900"/>
                </a:cubicBezTo>
                <a:cubicBezTo>
                  <a:pt x="2753" y="15925"/>
                  <a:pt x="2753" y="15933"/>
                  <a:pt x="2753" y="15949"/>
                </a:cubicBezTo>
              </a:path>
              <a:path w="3076" h="4193">
                <a:moveTo>
                  <a:pt x="4242" y="14610"/>
                </a:moveTo>
                <a:cubicBezTo>
                  <a:pt x="4310" y="14624"/>
                  <a:pt x="4366" y="14635"/>
                  <a:pt x="4440" y="14635"/>
                </a:cubicBezTo>
              </a:path>
              <a:path w="3076" h="4193">
                <a:moveTo>
                  <a:pt x="4564" y="14387"/>
                </a:moveTo>
                <a:cubicBezTo>
                  <a:pt x="4627" y="14418"/>
                  <a:pt x="4614" y="14463"/>
                  <a:pt x="4614" y="14536"/>
                </a:cubicBezTo>
                <a:cubicBezTo>
                  <a:pt x="4686" y="14536"/>
                  <a:pt x="4728" y="14526"/>
                  <a:pt x="4787" y="14486"/>
                </a:cubicBezTo>
              </a:path>
              <a:path w="3076" h="4193">
                <a:moveTo>
                  <a:pt x="4787" y="14263"/>
                </a:moveTo>
                <a:cubicBezTo>
                  <a:pt x="4771" y="14372"/>
                  <a:pt x="4762" y="14473"/>
                  <a:pt x="4762" y="14585"/>
                </a:cubicBezTo>
                <a:cubicBezTo>
                  <a:pt x="4762" y="14610"/>
                  <a:pt x="4762" y="14618"/>
                  <a:pt x="4762" y="14635"/>
                </a:cubicBezTo>
              </a:path>
              <a:path w="3076" h="4193">
                <a:moveTo>
                  <a:pt x="1984" y="15801"/>
                </a:moveTo>
                <a:cubicBezTo>
                  <a:pt x="2124" y="15781"/>
                  <a:pt x="2266" y="15768"/>
                  <a:pt x="2406" y="15751"/>
                </a:cubicBezTo>
                <a:cubicBezTo>
                  <a:pt x="2537" y="15735"/>
                  <a:pt x="2653" y="15710"/>
                  <a:pt x="2778" y="15677"/>
                </a:cubicBezTo>
                <a:cubicBezTo>
                  <a:pt x="2803" y="15677"/>
                  <a:pt x="2811" y="15677"/>
                  <a:pt x="2828" y="15677"/>
                </a:cubicBezTo>
              </a:path>
              <a:path w="3076" h="4193">
                <a:moveTo>
                  <a:pt x="2257" y="16024"/>
                </a:moveTo>
                <a:cubicBezTo>
                  <a:pt x="2317" y="16044"/>
                  <a:pt x="2313" y="16186"/>
                  <a:pt x="2307" y="16247"/>
                </a:cubicBezTo>
                <a:cubicBezTo>
                  <a:pt x="2298" y="16332"/>
                  <a:pt x="2282" y="16408"/>
                  <a:pt x="2282" y="16495"/>
                </a:cubicBezTo>
              </a:path>
              <a:path w="3076" h="4193">
                <a:moveTo>
                  <a:pt x="3671" y="15007"/>
                </a:moveTo>
                <a:cubicBezTo>
                  <a:pt x="3792" y="14916"/>
                  <a:pt x="3951" y="14850"/>
                  <a:pt x="4093" y="14784"/>
                </a:cubicBezTo>
                <a:cubicBezTo>
                  <a:pt x="4299" y="14688"/>
                  <a:pt x="4511" y="14579"/>
                  <a:pt x="4713" y="14486"/>
                </a:cubicBezTo>
                <a:cubicBezTo>
                  <a:pt x="4738" y="14486"/>
                  <a:pt x="4746" y="14486"/>
                  <a:pt x="4762" y="14486"/>
                </a:cubicBezTo>
              </a:path>
              <a:path w="3076" h="4193">
                <a:moveTo>
                  <a:pt x="4043" y="14114"/>
                </a:moveTo>
                <a:cubicBezTo>
                  <a:pt x="4097" y="14105"/>
                  <a:pt x="4141" y="14087"/>
                  <a:pt x="4192" y="14064"/>
                </a:cubicBezTo>
                <a:cubicBezTo>
                  <a:pt x="4213" y="14208"/>
                  <a:pt x="4181" y="14278"/>
                  <a:pt x="4068" y="14387"/>
                </a:cubicBezTo>
                <a:cubicBezTo>
                  <a:pt x="4043" y="14403"/>
                  <a:pt x="4019" y="14420"/>
                  <a:pt x="3994" y="14436"/>
                </a:cubicBezTo>
                <a:cubicBezTo>
                  <a:pt x="4109" y="14420"/>
                  <a:pt x="4205" y="14367"/>
                  <a:pt x="4316" y="14337"/>
                </a:cubicBezTo>
                <a:cubicBezTo>
                  <a:pt x="4324" y="14337"/>
                  <a:pt x="4333" y="14337"/>
                  <a:pt x="4341" y="1433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62040" y="5197320"/>
            <a:ext cx="3152880" cy="303480"/>
          </a:xfrm>
          <a:custGeom>
            <a:avLst/>
            <a:gdLst/>
            <a:ahLst/>
            <a:rect l="l" t="t" r="r" b="b"/>
            <a:pathLst>
              <a:path w="8757" h="845">
                <a:moveTo>
                  <a:pt x="4366" y="14436"/>
                </a:moveTo>
                <a:lnTo>
                  <a:pt x="4366" y="14436"/>
                </a:lnTo>
              </a:path>
              <a:path w="8757" h="845">
                <a:moveTo>
                  <a:pt x="4341" y="14759"/>
                </a:moveTo>
                <a:cubicBezTo>
                  <a:pt x="4341" y="14767"/>
                  <a:pt x="4341" y="14776"/>
                  <a:pt x="4341" y="14784"/>
                </a:cubicBezTo>
              </a:path>
              <a:path w="8757" h="845">
                <a:moveTo>
                  <a:pt x="12998" y="14932"/>
                </a:moveTo>
                <a:cubicBezTo>
                  <a:pt x="12998" y="14940"/>
                  <a:pt x="12998" y="14949"/>
                  <a:pt x="12998" y="14957"/>
                </a:cubicBezTo>
              </a:path>
              <a:path w="8757" h="845">
                <a:moveTo>
                  <a:pt x="12998" y="14957"/>
                </a:moveTo>
                <a:lnTo>
                  <a:pt x="12998" y="14957"/>
                </a:lnTo>
              </a:path>
              <a:path w="8757" h="845">
                <a:moveTo>
                  <a:pt x="13097" y="15280"/>
                </a:moveTo>
                <a:lnTo>
                  <a:pt x="13097" y="15280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357280" y="5965920"/>
            <a:ext cx="1374840" cy="579240"/>
          </a:xfrm>
          <a:custGeom>
            <a:avLst/>
            <a:gdLst/>
            <a:ahLst/>
            <a:rect l="l" t="t" r="r" b="b"/>
            <a:pathLst>
              <a:path w="3821" h="1613">
                <a:moveTo>
                  <a:pt x="6623" y="16570"/>
                </a:moveTo>
                <a:cubicBezTo>
                  <a:pt x="6590" y="16711"/>
                  <a:pt x="6568" y="16850"/>
                  <a:pt x="6548" y="16991"/>
                </a:cubicBezTo>
                <a:cubicBezTo>
                  <a:pt x="6548" y="16999"/>
                  <a:pt x="6548" y="17008"/>
                  <a:pt x="6548" y="17016"/>
                </a:cubicBezTo>
              </a:path>
              <a:path w="3821" h="1613">
                <a:moveTo>
                  <a:pt x="8954" y="18182"/>
                </a:moveTo>
                <a:cubicBezTo>
                  <a:pt x="9079" y="18157"/>
                  <a:pt x="9120" y="18149"/>
                  <a:pt x="9203" y="18132"/>
                </a:cubicBezTo>
              </a:path>
              <a:path w="3821" h="1613">
                <a:moveTo>
                  <a:pt x="10195" y="17462"/>
                </a:moveTo>
                <a:cubicBezTo>
                  <a:pt x="10278" y="17462"/>
                  <a:pt x="10312" y="17460"/>
                  <a:pt x="10368" y="1743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89000" y="5938920"/>
            <a:ext cx="1509840" cy="490320"/>
          </a:xfrm>
          <a:custGeom>
            <a:avLst/>
            <a:gdLst/>
            <a:ahLst/>
            <a:rect l="l" t="t" r="r" b="b"/>
            <a:pathLst>
              <a:path w="4193" h="1365">
                <a:moveTo>
                  <a:pt x="3076" y="16768"/>
                </a:moveTo>
                <a:cubicBezTo>
                  <a:pt x="3106" y="16727"/>
                  <a:pt x="3259" y="16664"/>
                  <a:pt x="3299" y="16768"/>
                </a:cubicBezTo>
                <a:cubicBezTo>
                  <a:pt x="3363" y="16934"/>
                  <a:pt x="3204" y="17076"/>
                  <a:pt x="3076" y="17140"/>
                </a:cubicBezTo>
                <a:cubicBezTo>
                  <a:pt x="3048" y="17140"/>
                  <a:pt x="3037" y="17138"/>
                  <a:pt x="3026" y="17115"/>
                </a:cubicBezTo>
                <a:cubicBezTo>
                  <a:pt x="3072" y="17040"/>
                  <a:pt x="3174" y="16999"/>
                  <a:pt x="3274" y="17016"/>
                </a:cubicBezTo>
                <a:cubicBezTo>
                  <a:pt x="3325" y="17025"/>
                  <a:pt x="3339" y="17052"/>
                  <a:pt x="3349" y="17090"/>
                </a:cubicBezTo>
              </a:path>
              <a:path w="4193" h="1365">
                <a:moveTo>
                  <a:pt x="3547" y="16619"/>
                </a:moveTo>
                <a:cubicBezTo>
                  <a:pt x="3596" y="16607"/>
                  <a:pt x="3643" y="16565"/>
                  <a:pt x="3696" y="16619"/>
                </a:cubicBezTo>
                <a:cubicBezTo>
                  <a:pt x="3740" y="16663"/>
                  <a:pt x="3601" y="16740"/>
                  <a:pt x="3597" y="16743"/>
                </a:cubicBezTo>
                <a:cubicBezTo>
                  <a:pt x="3589" y="16743"/>
                  <a:pt x="3580" y="16743"/>
                  <a:pt x="3572" y="16743"/>
                </a:cubicBezTo>
                <a:cubicBezTo>
                  <a:pt x="3639" y="16743"/>
                  <a:pt x="3738" y="16740"/>
                  <a:pt x="3770" y="16818"/>
                </a:cubicBezTo>
                <a:cubicBezTo>
                  <a:pt x="3818" y="16935"/>
                  <a:pt x="3668" y="16958"/>
                  <a:pt x="3597" y="16966"/>
                </a:cubicBezTo>
                <a:cubicBezTo>
                  <a:pt x="3589" y="16966"/>
                  <a:pt x="3580" y="16966"/>
                  <a:pt x="3572" y="16966"/>
                </a:cubicBezTo>
              </a:path>
              <a:path w="4193" h="1365">
                <a:moveTo>
                  <a:pt x="3200" y="17314"/>
                </a:moveTo>
                <a:cubicBezTo>
                  <a:pt x="3333" y="17305"/>
                  <a:pt x="3603" y="17264"/>
                  <a:pt x="3696" y="17338"/>
                </a:cubicBezTo>
                <a:cubicBezTo>
                  <a:pt x="3731" y="17373"/>
                  <a:pt x="3735" y="17395"/>
                  <a:pt x="3696" y="17438"/>
                </a:cubicBezTo>
              </a:path>
              <a:path w="4193" h="1365">
                <a:moveTo>
                  <a:pt x="3448" y="17537"/>
                </a:moveTo>
                <a:cubicBezTo>
                  <a:pt x="3396" y="17554"/>
                  <a:pt x="3423" y="17678"/>
                  <a:pt x="3423" y="17735"/>
                </a:cubicBezTo>
                <a:cubicBezTo>
                  <a:pt x="3423" y="17776"/>
                  <a:pt x="3423" y="17818"/>
                  <a:pt x="3423" y="17859"/>
                </a:cubicBezTo>
              </a:path>
              <a:path w="4193" h="1365">
                <a:moveTo>
                  <a:pt x="4142" y="17115"/>
                </a:moveTo>
                <a:cubicBezTo>
                  <a:pt x="4227" y="17143"/>
                  <a:pt x="4351" y="17220"/>
                  <a:pt x="4415" y="17289"/>
                </a:cubicBezTo>
                <a:cubicBezTo>
                  <a:pt x="4415" y="17297"/>
                  <a:pt x="4415" y="17306"/>
                  <a:pt x="4415" y="17314"/>
                </a:cubicBezTo>
              </a:path>
              <a:path w="4193" h="1365">
                <a:moveTo>
                  <a:pt x="4440" y="16991"/>
                </a:moveTo>
                <a:cubicBezTo>
                  <a:pt x="4371" y="17128"/>
                  <a:pt x="4321" y="17325"/>
                  <a:pt x="4217" y="17438"/>
                </a:cubicBezTo>
                <a:cubicBezTo>
                  <a:pt x="4200" y="17457"/>
                  <a:pt x="4192" y="17466"/>
                  <a:pt x="4192" y="17438"/>
                </a:cubicBezTo>
              </a:path>
              <a:path w="4193" h="1365">
                <a:moveTo>
                  <a:pt x="4738" y="16619"/>
                </a:moveTo>
                <a:cubicBezTo>
                  <a:pt x="4749" y="16586"/>
                  <a:pt x="4845" y="16539"/>
                  <a:pt x="4887" y="16570"/>
                </a:cubicBezTo>
                <a:cubicBezTo>
                  <a:pt x="4960" y="16625"/>
                  <a:pt x="4868" y="16784"/>
                  <a:pt x="4812" y="16818"/>
                </a:cubicBezTo>
                <a:cubicBezTo>
                  <a:pt x="4784" y="16835"/>
                  <a:pt x="4794" y="16832"/>
                  <a:pt x="4762" y="16842"/>
                </a:cubicBezTo>
                <a:cubicBezTo>
                  <a:pt x="4859" y="16842"/>
                  <a:pt x="4940" y="16808"/>
                  <a:pt x="5035" y="16793"/>
                </a:cubicBezTo>
                <a:cubicBezTo>
                  <a:pt x="5077" y="16793"/>
                  <a:pt x="5093" y="16785"/>
                  <a:pt x="5085" y="16818"/>
                </a:cubicBezTo>
              </a:path>
              <a:path w="4193" h="1365">
                <a:moveTo>
                  <a:pt x="4614" y="17264"/>
                </a:moveTo>
                <a:cubicBezTo>
                  <a:pt x="4768" y="17219"/>
                  <a:pt x="4926" y="17201"/>
                  <a:pt x="5085" y="17190"/>
                </a:cubicBezTo>
                <a:cubicBezTo>
                  <a:pt x="5260" y="17178"/>
                  <a:pt x="5136" y="17191"/>
                  <a:pt x="5209" y="17214"/>
                </a:cubicBezTo>
              </a:path>
              <a:path w="4193" h="1365">
                <a:moveTo>
                  <a:pt x="4762" y="17487"/>
                </a:moveTo>
                <a:cubicBezTo>
                  <a:pt x="4730" y="17594"/>
                  <a:pt x="4691" y="17704"/>
                  <a:pt x="4663" y="17810"/>
                </a:cubicBezTo>
                <a:cubicBezTo>
                  <a:pt x="4663" y="17818"/>
                  <a:pt x="4663" y="17827"/>
                  <a:pt x="4663" y="17835"/>
                </a:cubicBezTo>
              </a:path>
              <a:path w="4193" h="1365">
                <a:moveTo>
                  <a:pt x="4961" y="17487"/>
                </a:moveTo>
                <a:cubicBezTo>
                  <a:pt x="5028" y="17554"/>
                  <a:pt x="5011" y="17678"/>
                  <a:pt x="5011" y="17785"/>
                </a:cubicBezTo>
                <a:cubicBezTo>
                  <a:pt x="5011" y="17810"/>
                  <a:pt x="5011" y="17818"/>
                  <a:pt x="5011" y="17835"/>
                </a:cubicBezTo>
              </a:path>
              <a:path w="4193" h="1365">
                <a:moveTo>
                  <a:pt x="5606" y="17140"/>
                </a:moveTo>
                <a:cubicBezTo>
                  <a:pt x="5706" y="17140"/>
                  <a:pt x="5783" y="17107"/>
                  <a:pt x="5879" y="17090"/>
                </a:cubicBezTo>
                <a:cubicBezTo>
                  <a:pt x="5920" y="17090"/>
                  <a:pt x="5936" y="17082"/>
                  <a:pt x="5928" y="17115"/>
                </a:cubicBezTo>
              </a:path>
              <a:path w="4193" h="1365">
                <a:moveTo>
                  <a:pt x="5779" y="17264"/>
                </a:moveTo>
                <a:cubicBezTo>
                  <a:pt x="5845" y="17304"/>
                  <a:pt x="5878" y="17270"/>
                  <a:pt x="5953" y="17264"/>
                </a:cubicBezTo>
                <a:cubicBezTo>
                  <a:pt x="5961" y="17264"/>
                  <a:pt x="5970" y="17264"/>
                  <a:pt x="5978" y="17264"/>
                </a:cubicBezTo>
              </a:path>
              <a:path w="4193" h="1365">
                <a:moveTo>
                  <a:pt x="6300" y="16669"/>
                </a:moveTo>
                <a:cubicBezTo>
                  <a:pt x="6300" y="16626"/>
                  <a:pt x="6290" y="16631"/>
                  <a:pt x="6325" y="16619"/>
                </a:cubicBezTo>
                <a:cubicBezTo>
                  <a:pt x="6313" y="16702"/>
                  <a:pt x="6259" y="16760"/>
                  <a:pt x="6276" y="16842"/>
                </a:cubicBezTo>
                <a:cubicBezTo>
                  <a:pt x="6284" y="16850"/>
                  <a:pt x="6292" y="16859"/>
                  <a:pt x="6300" y="16867"/>
                </a:cubicBezTo>
                <a:cubicBezTo>
                  <a:pt x="6385" y="16855"/>
                  <a:pt x="6463" y="16824"/>
                  <a:pt x="6548" y="16818"/>
                </a:cubicBezTo>
                <a:cubicBezTo>
                  <a:pt x="6556" y="16818"/>
                  <a:pt x="6565" y="16818"/>
                  <a:pt x="6573" y="16818"/>
                </a:cubicBezTo>
              </a:path>
              <a:path w="4193" h="1365">
                <a:moveTo>
                  <a:pt x="6896" y="16495"/>
                </a:moveTo>
                <a:cubicBezTo>
                  <a:pt x="6896" y="16596"/>
                  <a:pt x="6864" y="16725"/>
                  <a:pt x="6871" y="16818"/>
                </a:cubicBezTo>
                <a:cubicBezTo>
                  <a:pt x="6875" y="16869"/>
                  <a:pt x="6900" y="16937"/>
                  <a:pt x="6945" y="16966"/>
                </a:cubicBezTo>
                <a:cubicBezTo>
                  <a:pt x="6997" y="17000"/>
                  <a:pt x="7051" y="16992"/>
                  <a:pt x="7094" y="16942"/>
                </a:cubicBezTo>
                <a:cubicBezTo>
                  <a:pt x="7137" y="16892"/>
                  <a:pt x="7144" y="16830"/>
                  <a:pt x="7144" y="16768"/>
                </a:cubicBezTo>
                <a:cubicBezTo>
                  <a:pt x="7043" y="16768"/>
                  <a:pt x="6993" y="16774"/>
                  <a:pt x="6970" y="16892"/>
                </a:cubicBezTo>
                <a:cubicBezTo>
                  <a:pt x="6962" y="16935"/>
                  <a:pt x="6970" y="16995"/>
                  <a:pt x="6970" y="17041"/>
                </a:cubicBezTo>
              </a:path>
              <a:path w="4193" h="1365">
                <a:moveTo>
                  <a:pt x="6226" y="17190"/>
                </a:moveTo>
                <a:cubicBezTo>
                  <a:pt x="6401" y="17190"/>
                  <a:pt x="6573" y="17207"/>
                  <a:pt x="6747" y="17214"/>
                </a:cubicBezTo>
                <a:cubicBezTo>
                  <a:pt x="6810" y="17217"/>
                  <a:pt x="7194" y="17167"/>
                  <a:pt x="7218" y="17239"/>
                </a:cubicBezTo>
              </a:path>
              <a:path w="4193" h="1365">
                <a:moveTo>
                  <a:pt x="6424" y="17388"/>
                </a:moveTo>
                <a:cubicBezTo>
                  <a:pt x="6424" y="17363"/>
                  <a:pt x="6424" y="17355"/>
                  <a:pt x="6449" y="17363"/>
                </a:cubicBezTo>
                <a:cubicBezTo>
                  <a:pt x="6449" y="17487"/>
                  <a:pt x="6449" y="17611"/>
                  <a:pt x="6449" y="17735"/>
                </a:cubicBezTo>
              </a:path>
              <a:path w="4193" h="1365">
                <a:moveTo>
                  <a:pt x="6846" y="17388"/>
                </a:moveTo>
                <a:cubicBezTo>
                  <a:pt x="6846" y="17311"/>
                  <a:pt x="6817" y="17487"/>
                  <a:pt x="6796" y="17562"/>
                </a:cubicBezTo>
                <a:cubicBezTo>
                  <a:pt x="6779" y="17623"/>
                  <a:pt x="6772" y="17651"/>
                  <a:pt x="6772" y="1771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55960" y="5938920"/>
            <a:ext cx="633240" cy="606240"/>
          </a:xfrm>
          <a:custGeom>
            <a:avLst/>
            <a:gdLst/>
            <a:ahLst/>
            <a:rect l="l" t="t" r="r" b="b"/>
            <a:pathLst>
              <a:path w="1762" h="1688">
                <a:moveTo>
                  <a:pt x="9054" y="17289"/>
                </a:moveTo>
                <a:cubicBezTo>
                  <a:pt x="9071" y="17329"/>
                  <a:pt x="9046" y="17385"/>
                  <a:pt x="9079" y="17413"/>
                </a:cubicBezTo>
                <a:cubicBezTo>
                  <a:pt x="9144" y="17467"/>
                  <a:pt x="9257" y="17402"/>
                  <a:pt x="9327" y="17388"/>
                </a:cubicBezTo>
                <a:cubicBezTo>
                  <a:pt x="9335" y="17388"/>
                  <a:pt x="9343" y="17388"/>
                  <a:pt x="9351" y="17388"/>
                </a:cubicBezTo>
              </a:path>
              <a:path w="1762" h="1688">
                <a:moveTo>
                  <a:pt x="9351" y="17140"/>
                </a:moveTo>
                <a:cubicBezTo>
                  <a:pt x="9369" y="17299"/>
                  <a:pt x="9396" y="17451"/>
                  <a:pt x="9401" y="17611"/>
                </a:cubicBezTo>
                <a:cubicBezTo>
                  <a:pt x="9401" y="17628"/>
                  <a:pt x="9401" y="17644"/>
                  <a:pt x="9401" y="17661"/>
                </a:cubicBezTo>
              </a:path>
              <a:path w="1762" h="1688">
                <a:moveTo>
                  <a:pt x="9599" y="17190"/>
                </a:moveTo>
                <a:cubicBezTo>
                  <a:pt x="9599" y="17299"/>
                  <a:pt x="9547" y="17588"/>
                  <a:pt x="9624" y="17661"/>
                </a:cubicBezTo>
                <a:cubicBezTo>
                  <a:pt x="9744" y="17774"/>
                  <a:pt x="9802" y="17649"/>
                  <a:pt x="9872" y="17562"/>
                </a:cubicBezTo>
                <a:cubicBezTo>
                  <a:pt x="9897" y="17537"/>
                  <a:pt x="9905" y="17529"/>
                  <a:pt x="9922" y="17512"/>
                </a:cubicBezTo>
                <a:cubicBezTo>
                  <a:pt x="9873" y="17475"/>
                  <a:pt x="9826" y="17464"/>
                  <a:pt x="9798" y="17537"/>
                </a:cubicBezTo>
                <a:cubicBezTo>
                  <a:pt x="9775" y="17627"/>
                  <a:pt x="9767" y="17651"/>
                  <a:pt x="9773" y="17711"/>
                </a:cubicBezTo>
              </a:path>
              <a:path w="1762" h="1688">
                <a:moveTo>
                  <a:pt x="9128" y="17884"/>
                </a:moveTo>
                <a:cubicBezTo>
                  <a:pt x="9076" y="17759"/>
                  <a:pt x="9025" y="17640"/>
                  <a:pt x="8979" y="17512"/>
                </a:cubicBezTo>
                <a:cubicBezTo>
                  <a:pt x="8950" y="17433"/>
                  <a:pt x="8855" y="17277"/>
                  <a:pt x="8855" y="17190"/>
                </a:cubicBezTo>
                <a:cubicBezTo>
                  <a:pt x="8855" y="17141"/>
                  <a:pt x="8893" y="17127"/>
                  <a:pt x="8930" y="17115"/>
                </a:cubicBezTo>
                <a:cubicBezTo>
                  <a:pt x="9109" y="17055"/>
                  <a:pt x="9339" y="17069"/>
                  <a:pt x="9525" y="17066"/>
                </a:cubicBezTo>
                <a:cubicBezTo>
                  <a:pt x="9669" y="17064"/>
                  <a:pt x="9784" y="17085"/>
                  <a:pt x="9922" y="17066"/>
                </a:cubicBezTo>
                <a:cubicBezTo>
                  <a:pt x="9938" y="17066"/>
                  <a:pt x="9955" y="17066"/>
                  <a:pt x="9971" y="17066"/>
                </a:cubicBezTo>
              </a:path>
              <a:path w="1762" h="1688">
                <a:moveTo>
                  <a:pt x="8235" y="17363"/>
                </a:moveTo>
                <a:cubicBezTo>
                  <a:pt x="8208" y="17431"/>
                  <a:pt x="8257" y="17644"/>
                  <a:pt x="8260" y="17760"/>
                </a:cubicBezTo>
                <a:cubicBezTo>
                  <a:pt x="8260" y="17818"/>
                  <a:pt x="8260" y="17826"/>
                  <a:pt x="8260" y="17859"/>
                </a:cubicBezTo>
              </a:path>
              <a:path w="1762" h="1688">
                <a:moveTo>
                  <a:pt x="8533" y="17314"/>
                </a:moveTo>
                <a:cubicBezTo>
                  <a:pt x="8564" y="17445"/>
                  <a:pt x="8589" y="17583"/>
                  <a:pt x="8607" y="17711"/>
                </a:cubicBezTo>
                <a:cubicBezTo>
                  <a:pt x="8607" y="17752"/>
                  <a:pt x="8607" y="17760"/>
                  <a:pt x="8607" y="17785"/>
                </a:cubicBezTo>
              </a:path>
              <a:path w="1762" h="1688">
                <a:moveTo>
                  <a:pt x="9426" y="16644"/>
                </a:moveTo>
                <a:cubicBezTo>
                  <a:pt x="9374" y="16661"/>
                  <a:pt x="9372" y="16784"/>
                  <a:pt x="9351" y="16842"/>
                </a:cubicBezTo>
                <a:cubicBezTo>
                  <a:pt x="9343" y="16859"/>
                  <a:pt x="9335" y="16875"/>
                  <a:pt x="9327" y="16892"/>
                </a:cubicBezTo>
                <a:cubicBezTo>
                  <a:pt x="9411" y="16892"/>
                  <a:pt x="9430" y="16849"/>
                  <a:pt x="9500" y="16818"/>
                </a:cubicBezTo>
                <a:cubicBezTo>
                  <a:pt x="9525" y="16818"/>
                  <a:pt x="9533" y="16818"/>
                  <a:pt x="9525" y="16793"/>
                </a:cubicBezTo>
              </a:path>
              <a:path w="1762" h="1688">
                <a:moveTo>
                  <a:pt x="9550" y="16495"/>
                </a:moveTo>
                <a:cubicBezTo>
                  <a:pt x="9550" y="16677"/>
                  <a:pt x="9550" y="16859"/>
                  <a:pt x="9550" y="17041"/>
                </a:cubicBezTo>
              </a:path>
              <a:path w="1762" h="1688">
                <a:moveTo>
                  <a:pt x="9376" y="17859"/>
                </a:moveTo>
                <a:cubicBezTo>
                  <a:pt x="9362" y="17944"/>
                  <a:pt x="9323" y="18025"/>
                  <a:pt x="9302" y="18107"/>
                </a:cubicBezTo>
                <a:cubicBezTo>
                  <a:pt x="9370" y="18085"/>
                  <a:pt x="9435" y="18062"/>
                  <a:pt x="9500" y="18033"/>
                </a:cubicBezTo>
              </a:path>
              <a:path w="1762" h="1688">
                <a:moveTo>
                  <a:pt x="9525" y="17835"/>
                </a:moveTo>
                <a:cubicBezTo>
                  <a:pt x="9511" y="17945"/>
                  <a:pt x="9500" y="18045"/>
                  <a:pt x="9500" y="18157"/>
                </a:cubicBezTo>
                <a:cubicBezTo>
                  <a:pt x="9500" y="18182"/>
                  <a:pt x="9500" y="18190"/>
                  <a:pt x="9500" y="18157"/>
                </a:cubicBezTo>
              </a:path>
              <a:path w="1762" h="1688">
                <a:moveTo>
                  <a:pt x="9699" y="17835"/>
                </a:moveTo>
                <a:cubicBezTo>
                  <a:pt x="9699" y="17900"/>
                  <a:pt x="9709" y="17954"/>
                  <a:pt x="9723" y="18008"/>
                </a:cubicBezTo>
                <a:cubicBezTo>
                  <a:pt x="9748" y="18102"/>
                  <a:pt x="9841" y="17990"/>
                  <a:pt x="9872" y="17959"/>
                </a:cubicBezTo>
              </a:path>
              <a:path w="1762" h="1688">
                <a:moveTo>
                  <a:pt x="9798" y="17760"/>
                </a:moveTo>
                <a:cubicBezTo>
                  <a:pt x="9790" y="17900"/>
                  <a:pt x="9787" y="18018"/>
                  <a:pt x="9798" y="1815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56040" y="4527720"/>
            <a:ext cx="295200" cy="1687320"/>
          </a:xfrm>
          <a:custGeom>
            <a:avLst/>
            <a:gdLst/>
            <a:ahLst/>
            <a:rect l="l" t="t" r="r" b="b"/>
            <a:pathLst>
              <a:path w="820" h="4689">
                <a:moveTo>
                  <a:pt x="11336" y="17264"/>
                </a:moveTo>
                <a:cubicBezTo>
                  <a:pt x="11490" y="17237"/>
                  <a:pt x="11643" y="17115"/>
                  <a:pt x="11807" y="17115"/>
                </a:cubicBezTo>
                <a:cubicBezTo>
                  <a:pt x="11807" y="17123"/>
                  <a:pt x="11807" y="17132"/>
                  <a:pt x="11807" y="17140"/>
                </a:cubicBezTo>
              </a:path>
              <a:path w="820" h="4689">
                <a:moveTo>
                  <a:pt x="11336" y="12576"/>
                </a:moveTo>
                <a:cubicBezTo>
                  <a:pt x="11328" y="12576"/>
                  <a:pt x="11319" y="12576"/>
                  <a:pt x="11311" y="12576"/>
                </a:cubicBezTo>
              </a:path>
              <a:path w="820" h="4689">
                <a:moveTo>
                  <a:pt x="11435" y="13022"/>
                </a:moveTo>
                <a:cubicBezTo>
                  <a:pt x="11427" y="13022"/>
                  <a:pt x="11418" y="13022"/>
                  <a:pt x="11410" y="13022"/>
                </a:cubicBezTo>
              </a:path>
              <a:path w="820" h="4689">
                <a:moveTo>
                  <a:pt x="10988" y="13990"/>
                </a:moveTo>
                <a:lnTo>
                  <a:pt x="10988" y="13990"/>
                </a:lnTo>
              </a:path>
              <a:path w="820" h="4689">
                <a:moveTo>
                  <a:pt x="11063" y="14312"/>
                </a:moveTo>
                <a:cubicBezTo>
                  <a:pt x="11063" y="14304"/>
                  <a:pt x="11063" y="14296"/>
                  <a:pt x="11063" y="1428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963880" y="3106800"/>
            <a:ext cx="385920" cy="358560"/>
          </a:xfrm>
          <a:custGeom>
            <a:avLst/>
            <a:gdLst/>
            <a:ahLst/>
            <a:rect l="l" t="t" r="r" b="b"/>
            <a:pathLst>
              <a:path w="1068" h="993">
                <a:moveTo>
                  <a:pt x="8706" y="9054"/>
                </a:moveTo>
                <a:cubicBezTo>
                  <a:pt x="8669" y="9028"/>
                  <a:pt x="8654" y="8913"/>
                  <a:pt x="8731" y="8880"/>
                </a:cubicBezTo>
                <a:cubicBezTo>
                  <a:pt x="8756" y="8880"/>
                  <a:pt x="8781" y="8880"/>
                  <a:pt x="8806" y="8880"/>
                </a:cubicBezTo>
                <a:cubicBezTo>
                  <a:pt x="8914" y="9014"/>
                  <a:pt x="8886" y="9170"/>
                  <a:pt x="8731" y="9302"/>
                </a:cubicBezTo>
                <a:cubicBezTo>
                  <a:pt x="8706" y="9310"/>
                  <a:pt x="8682" y="9319"/>
                  <a:pt x="8657" y="9327"/>
                </a:cubicBezTo>
                <a:cubicBezTo>
                  <a:pt x="8708" y="9190"/>
                  <a:pt x="8795" y="9215"/>
                  <a:pt x="8930" y="9227"/>
                </a:cubicBezTo>
                <a:cubicBezTo>
                  <a:pt x="8954" y="9227"/>
                  <a:pt x="8962" y="9227"/>
                  <a:pt x="8954" y="9252"/>
                </a:cubicBezTo>
              </a:path>
              <a:path w="1068" h="993">
                <a:moveTo>
                  <a:pt x="8558" y="9500"/>
                </a:moveTo>
                <a:cubicBezTo>
                  <a:pt x="8738" y="9578"/>
                  <a:pt x="8880" y="9536"/>
                  <a:pt x="9054" y="9426"/>
                </a:cubicBezTo>
                <a:cubicBezTo>
                  <a:pt x="9256" y="9299"/>
                  <a:pt x="9339" y="9153"/>
                  <a:pt x="9252" y="8930"/>
                </a:cubicBezTo>
                <a:cubicBezTo>
                  <a:pt x="9160" y="8695"/>
                  <a:pt x="8956" y="8597"/>
                  <a:pt x="8706" y="8632"/>
                </a:cubicBezTo>
                <a:cubicBezTo>
                  <a:pt x="8533" y="8656"/>
                  <a:pt x="8313" y="8776"/>
                  <a:pt x="8260" y="8954"/>
                </a:cubicBezTo>
                <a:cubicBezTo>
                  <a:pt x="8186" y="9204"/>
                  <a:pt x="8269" y="9534"/>
                  <a:pt x="8533" y="9624"/>
                </a:cubicBezTo>
                <a:cubicBezTo>
                  <a:pt x="8627" y="9656"/>
                  <a:pt x="8744" y="9606"/>
                  <a:pt x="8830" y="957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32120" y="3321000"/>
            <a:ext cx="152640" cy="662040"/>
          </a:xfrm>
          <a:custGeom>
            <a:avLst/>
            <a:gdLst/>
            <a:ahLst/>
            <a:rect l="l" t="t" r="r" b="b"/>
            <a:pathLst>
              <a:path w="423" h="1837">
                <a:moveTo>
                  <a:pt x="10368" y="10815"/>
                </a:moveTo>
                <a:cubicBezTo>
                  <a:pt x="10426" y="10729"/>
                  <a:pt x="10481" y="10891"/>
                  <a:pt x="10542" y="10939"/>
                </a:cubicBezTo>
                <a:cubicBezTo>
                  <a:pt x="10559" y="10947"/>
                  <a:pt x="10575" y="10956"/>
                  <a:pt x="10592" y="10964"/>
                </a:cubicBezTo>
              </a:path>
              <a:path w="423" h="1837">
                <a:moveTo>
                  <a:pt x="10616" y="10716"/>
                </a:moveTo>
                <a:cubicBezTo>
                  <a:pt x="10551" y="10795"/>
                  <a:pt x="10484" y="10894"/>
                  <a:pt x="10443" y="10988"/>
                </a:cubicBezTo>
                <a:cubicBezTo>
                  <a:pt x="10436" y="11004"/>
                  <a:pt x="10443" y="11045"/>
                  <a:pt x="10443" y="11063"/>
                </a:cubicBezTo>
              </a:path>
              <a:path w="423" h="1837">
                <a:moveTo>
                  <a:pt x="10691" y="9252"/>
                </a:moveTo>
                <a:cubicBezTo>
                  <a:pt x="10691" y="9178"/>
                  <a:pt x="10691" y="9375"/>
                  <a:pt x="10691" y="9376"/>
                </a:cubicBezTo>
                <a:cubicBezTo>
                  <a:pt x="10714" y="9399"/>
                  <a:pt x="10722" y="9403"/>
                  <a:pt x="10716" y="9426"/>
                </a:cubicBezTo>
              </a:path>
              <a:path w="423" h="1837">
                <a:moveTo>
                  <a:pt x="10542" y="9351"/>
                </a:moveTo>
                <a:cubicBezTo>
                  <a:pt x="10611" y="9351"/>
                  <a:pt x="10672" y="9332"/>
                  <a:pt x="10740" y="9327"/>
                </a:cubicBezTo>
                <a:cubicBezTo>
                  <a:pt x="10765" y="9327"/>
                  <a:pt x="10773" y="9327"/>
                  <a:pt x="10790" y="932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697200" y="4375080"/>
            <a:ext cx="901800" cy="2081160"/>
          </a:xfrm>
          <a:custGeom>
            <a:avLst/>
            <a:gdLst/>
            <a:ahLst/>
            <a:rect l="l" t="t" r="r" b="b"/>
            <a:pathLst>
              <a:path w="2506" h="5781">
                <a:moveTo>
                  <a:pt x="11460" y="17388"/>
                </a:moveTo>
                <a:cubicBezTo>
                  <a:pt x="11460" y="17504"/>
                  <a:pt x="11460" y="17619"/>
                  <a:pt x="11460" y="17735"/>
                </a:cubicBezTo>
              </a:path>
              <a:path w="2506" h="5781">
                <a:moveTo>
                  <a:pt x="11708" y="17388"/>
                </a:moveTo>
                <a:cubicBezTo>
                  <a:pt x="11715" y="17460"/>
                  <a:pt x="11772" y="17616"/>
                  <a:pt x="11733" y="17686"/>
                </a:cubicBezTo>
                <a:cubicBezTo>
                  <a:pt x="11725" y="17686"/>
                  <a:pt x="11716" y="17686"/>
                  <a:pt x="11708" y="17686"/>
                </a:cubicBezTo>
              </a:path>
              <a:path w="2506" h="5781">
                <a:moveTo>
                  <a:pt x="10691" y="17760"/>
                </a:moveTo>
                <a:cubicBezTo>
                  <a:pt x="10783" y="17865"/>
                  <a:pt x="10938" y="17934"/>
                  <a:pt x="11088" y="17934"/>
                </a:cubicBezTo>
                <a:cubicBezTo>
                  <a:pt x="11280" y="17934"/>
                  <a:pt x="11558" y="17887"/>
                  <a:pt x="11733" y="17810"/>
                </a:cubicBezTo>
                <a:cubicBezTo>
                  <a:pt x="11895" y="17738"/>
                  <a:pt x="12074" y="17607"/>
                  <a:pt x="12179" y="17462"/>
                </a:cubicBezTo>
                <a:cubicBezTo>
                  <a:pt x="12280" y="17322"/>
                  <a:pt x="12267" y="17124"/>
                  <a:pt x="12229" y="16966"/>
                </a:cubicBezTo>
                <a:cubicBezTo>
                  <a:pt x="12181" y="16763"/>
                  <a:pt x="12083" y="16546"/>
                  <a:pt x="11906" y="16421"/>
                </a:cubicBezTo>
                <a:cubicBezTo>
                  <a:pt x="11674" y="16257"/>
                  <a:pt x="11374" y="16221"/>
                  <a:pt x="11112" y="16346"/>
                </a:cubicBezTo>
                <a:cubicBezTo>
                  <a:pt x="10925" y="16435"/>
                  <a:pt x="10730" y="16538"/>
                  <a:pt x="10616" y="16718"/>
                </a:cubicBezTo>
                <a:cubicBezTo>
                  <a:pt x="10528" y="16857"/>
                  <a:pt x="10480" y="17026"/>
                  <a:pt x="10492" y="17190"/>
                </a:cubicBezTo>
                <a:cubicBezTo>
                  <a:pt x="10508" y="17413"/>
                  <a:pt x="10605" y="17655"/>
                  <a:pt x="10765" y="17810"/>
                </a:cubicBezTo>
                <a:cubicBezTo>
                  <a:pt x="10859" y="17880"/>
                  <a:pt x="10885" y="17903"/>
                  <a:pt x="10964" y="17909"/>
                </a:cubicBezTo>
              </a:path>
              <a:path w="2506" h="5781">
                <a:moveTo>
                  <a:pt x="10443" y="12229"/>
                </a:moveTo>
                <a:cubicBezTo>
                  <a:pt x="10477" y="12222"/>
                  <a:pt x="10612" y="12175"/>
                  <a:pt x="10616" y="12254"/>
                </a:cubicBezTo>
                <a:cubicBezTo>
                  <a:pt x="10621" y="12356"/>
                  <a:pt x="10560" y="12402"/>
                  <a:pt x="10492" y="12452"/>
                </a:cubicBezTo>
                <a:cubicBezTo>
                  <a:pt x="10580" y="12452"/>
                  <a:pt x="10659" y="12433"/>
                  <a:pt x="10641" y="12551"/>
                </a:cubicBezTo>
                <a:cubicBezTo>
                  <a:pt x="10625" y="12654"/>
                  <a:pt x="10511" y="12667"/>
                  <a:pt x="10443" y="12650"/>
                </a:cubicBezTo>
              </a:path>
              <a:path w="2506" h="5781">
                <a:moveTo>
                  <a:pt x="10840" y="12154"/>
                </a:moveTo>
                <a:cubicBezTo>
                  <a:pt x="10840" y="12319"/>
                  <a:pt x="10840" y="12485"/>
                  <a:pt x="10840" y="12650"/>
                </a:cubicBezTo>
              </a:path>
              <a:path w="2506" h="5781">
                <a:moveTo>
                  <a:pt x="10269" y="12799"/>
                </a:moveTo>
                <a:cubicBezTo>
                  <a:pt x="10380" y="12799"/>
                  <a:pt x="10482" y="12780"/>
                  <a:pt x="10592" y="12774"/>
                </a:cubicBezTo>
                <a:cubicBezTo>
                  <a:pt x="10715" y="12767"/>
                  <a:pt x="10841" y="12774"/>
                  <a:pt x="10964" y="12774"/>
                </a:cubicBezTo>
              </a:path>
              <a:path w="2506" h="5781">
                <a:moveTo>
                  <a:pt x="10765" y="12998"/>
                </a:moveTo>
                <a:cubicBezTo>
                  <a:pt x="10700" y="12998"/>
                  <a:pt x="10652" y="13016"/>
                  <a:pt x="10592" y="13022"/>
                </a:cubicBezTo>
                <a:cubicBezTo>
                  <a:pt x="10521" y="13029"/>
                  <a:pt x="10542" y="13142"/>
                  <a:pt x="10542" y="13196"/>
                </a:cubicBezTo>
                <a:cubicBezTo>
                  <a:pt x="10542" y="13204"/>
                  <a:pt x="10542" y="13213"/>
                  <a:pt x="10542" y="13221"/>
                </a:cubicBezTo>
                <a:cubicBezTo>
                  <a:pt x="10594" y="13211"/>
                  <a:pt x="10686" y="13166"/>
                  <a:pt x="10740" y="13196"/>
                </a:cubicBezTo>
                <a:cubicBezTo>
                  <a:pt x="10806" y="13233"/>
                  <a:pt x="10756" y="13383"/>
                  <a:pt x="10716" y="13419"/>
                </a:cubicBezTo>
                <a:cubicBezTo>
                  <a:pt x="10643" y="13485"/>
                  <a:pt x="10580" y="13469"/>
                  <a:pt x="10492" y="13469"/>
                </a:cubicBezTo>
              </a:path>
              <a:path w="2506" h="5781">
                <a:moveTo>
                  <a:pt x="10368" y="14188"/>
                </a:moveTo>
                <a:cubicBezTo>
                  <a:pt x="10403" y="14179"/>
                  <a:pt x="10491" y="14151"/>
                  <a:pt x="10517" y="14213"/>
                </a:cubicBezTo>
                <a:cubicBezTo>
                  <a:pt x="10546" y="14283"/>
                  <a:pt x="10512" y="14342"/>
                  <a:pt x="10468" y="14387"/>
                </a:cubicBezTo>
                <a:cubicBezTo>
                  <a:pt x="10517" y="14387"/>
                  <a:pt x="10586" y="14408"/>
                  <a:pt x="10567" y="14486"/>
                </a:cubicBezTo>
                <a:cubicBezTo>
                  <a:pt x="10548" y="14563"/>
                  <a:pt x="10449" y="14648"/>
                  <a:pt x="10368" y="14610"/>
                </a:cubicBezTo>
                <a:cubicBezTo>
                  <a:pt x="10360" y="14602"/>
                  <a:pt x="10352" y="14593"/>
                  <a:pt x="10344" y="14585"/>
                </a:cubicBezTo>
              </a:path>
              <a:path w="2506" h="5781">
                <a:moveTo>
                  <a:pt x="10716" y="14015"/>
                </a:moveTo>
                <a:cubicBezTo>
                  <a:pt x="10730" y="14147"/>
                  <a:pt x="10752" y="14279"/>
                  <a:pt x="10765" y="14412"/>
                </a:cubicBezTo>
                <a:cubicBezTo>
                  <a:pt x="10765" y="14461"/>
                  <a:pt x="10765" y="14478"/>
                  <a:pt x="10765" y="14511"/>
                </a:cubicBezTo>
              </a:path>
              <a:path w="2506" h="5781">
                <a:moveTo>
                  <a:pt x="10344" y="14858"/>
                </a:moveTo>
                <a:cubicBezTo>
                  <a:pt x="10400" y="14782"/>
                  <a:pt x="10612" y="14737"/>
                  <a:pt x="10716" y="14709"/>
                </a:cubicBezTo>
                <a:cubicBezTo>
                  <a:pt x="10794" y="14688"/>
                  <a:pt x="10884" y="14671"/>
                  <a:pt x="10964" y="14660"/>
                </a:cubicBezTo>
              </a:path>
              <a:path w="2506" h="5781">
                <a:moveTo>
                  <a:pt x="10765" y="14957"/>
                </a:moveTo>
                <a:cubicBezTo>
                  <a:pt x="10743" y="14892"/>
                  <a:pt x="10669" y="14966"/>
                  <a:pt x="10616" y="14982"/>
                </a:cubicBezTo>
                <a:cubicBezTo>
                  <a:pt x="10576" y="14994"/>
                  <a:pt x="10582" y="15084"/>
                  <a:pt x="10592" y="15131"/>
                </a:cubicBezTo>
                <a:cubicBezTo>
                  <a:pt x="10602" y="15177"/>
                  <a:pt x="10618" y="15215"/>
                  <a:pt x="10641" y="15230"/>
                </a:cubicBezTo>
                <a:cubicBezTo>
                  <a:pt x="10672" y="15199"/>
                  <a:pt x="10714" y="15143"/>
                  <a:pt x="10765" y="15156"/>
                </a:cubicBezTo>
                <a:cubicBezTo>
                  <a:pt x="10904" y="15192"/>
                  <a:pt x="10817" y="15358"/>
                  <a:pt x="10765" y="15429"/>
                </a:cubicBezTo>
                <a:cubicBezTo>
                  <a:pt x="10713" y="15500"/>
                  <a:pt x="10646" y="15503"/>
                  <a:pt x="10567" y="15503"/>
                </a:cubicBezTo>
              </a:path>
              <a:path w="2506" h="5781">
                <a:moveTo>
                  <a:pt x="12402" y="14238"/>
                </a:moveTo>
                <a:cubicBezTo>
                  <a:pt x="12445" y="14238"/>
                  <a:pt x="12440" y="14248"/>
                  <a:pt x="12452" y="14213"/>
                </a:cubicBezTo>
                <a:cubicBezTo>
                  <a:pt x="12419" y="14191"/>
                  <a:pt x="12400" y="14176"/>
                  <a:pt x="12353" y="14139"/>
                </a:cubicBezTo>
                <a:cubicBezTo>
                  <a:pt x="12290" y="14089"/>
                  <a:pt x="12274" y="14118"/>
                  <a:pt x="12254" y="14188"/>
                </a:cubicBezTo>
                <a:cubicBezTo>
                  <a:pt x="12226" y="14285"/>
                  <a:pt x="12211" y="14346"/>
                  <a:pt x="12229" y="14436"/>
                </a:cubicBezTo>
                <a:cubicBezTo>
                  <a:pt x="12379" y="14436"/>
                  <a:pt x="12363" y="14407"/>
                  <a:pt x="12402" y="14263"/>
                </a:cubicBezTo>
                <a:cubicBezTo>
                  <a:pt x="12421" y="14189"/>
                  <a:pt x="12429" y="14182"/>
                  <a:pt x="12427" y="14139"/>
                </a:cubicBezTo>
                <a:cubicBezTo>
                  <a:pt x="12452" y="14260"/>
                  <a:pt x="12498" y="14387"/>
                  <a:pt x="12526" y="14511"/>
                </a:cubicBezTo>
                <a:cubicBezTo>
                  <a:pt x="12542" y="14582"/>
                  <a:pt x="12551" y="14600"/>
                  <a:pt x="12551" y="14660"/>
                </a:cubicBezTo>
              </a:path>
              <a:path w="2506" h="5781">
                <a:moveTo>
                  <a:pt x="12129" y="14808"/>
                </a:moveTo>
                <a:cubicBezTo>
                  <a:pt x="12286" y="14769"/>
                  <a:pt x="12444" y="14705"/>
                  <a:pt x="12601" y="14660"/>
                </a:cubicBezTo>
                <a:cubicBezTo>
                  <a:pt x="12672" y="14640"/>
                  <a:pt x="12708" y="14635"/>
                  <a:pt x="12774" y="14635"/>
                </a:cubicBezTo>
              </a:path>
              <a:path w="2506" h="5781">
                <a:moveTo>
                  <a:pt x="12204" y="14957"/>
                </a:moveTo>
                <a:cubicBezTo>
                  <a:pt x="12192" y="14934"/>
                  <a:pt x="12270" y="14840"/>
                  <a:pt x="12353" y="14858"/>
                </a:cubicBezTo>
                <a:cubicBezTo>
                  <a:pt x="12445" y="14878"/>
                  <a:pt x="12342" y="14986"/>
                  <a:pt x="12328" y="15007"/>
                </a:cubicBezTo>
                <a:cubicBezTo>
                  <a:pt x="12320" y="15023"/>
                  <a:pt x="12311" y="15040"/>
                  <a:pt x="12303" y="15056"/>
                </a:cubicBezTo>
                <a:cubicBezTo>
                  <a:pt x="12412" y="15037"/>
                  <a:pt x="12506" y="15080"/>
                  <a:pt x="12452" y="15230"/>
                </a:cubicBezTo>
                <a:cubicBezTo>
                  <a:pt x="12427" y="15298"/>
                  <a:pt x="12321" y="15365"/>
                  <a:pt x="12254" y="15379"/>
                </a:cubicBezTo>
                <a:cubicBezTo>
                  <a:pt x="12254" y="15306"/>
                  <a:pt x="12248" y="15342"/>
                  <a:pt x="12328" y="15280"/>
                </a:cubicBezTo>
              </a:path>
              <a:path w="2506" h="5781">
                <a:moveTo>
                  <a:pt x="12650" y="14833"/>
                </a:moveTo>
                <a:cubicBezTo>
                  <a:pt x="12659" y="14950"/>
                  <a:pt x="12693" y="15062"/>
                  <a:pt x="12700" y="15180"/>
                </a:cubicBezTo>
                <a:cubicBezTo>
                  <a:pt x="12700" y="15215"/>
                  <a:pt x="12705" y="15233"/>
                  <a:pt x="12725" y="15255"/>
                </a:cubicBezTo>
              </a:path>
              <a:path w="2506" h="5781">
                <a:moveTo>
                  <a:pt x="11261" y="14560"/>
                </a:moveTo>
                <a:cubicBezTo>
                  <a:pt x="11358" y="14579"/>
                  <a:pt x="11416" y="14665"/>
                  <a:pt x="11485" y="14734"/>
                </a:cubicBezTo>
                <a:cubicBezTo>
                  <a:pt x="11521" y="14771"/>
                  <a:pt x="11494" y="14771"/>
                  <a:pt x="11534" y="14784"/>
                </a:cubicBezTo>
              </a:path>
              <a:path w="2506" h="5781">
                <a:moveTo>
                  <a:pt x="11534" y="14412"/>
                </a:moveTo>
                <a:cubicBezTo>
                  <a:pt x="11466" y="14540"/>
                  <a:pt x="11412" y="14687"/>
                  <a:pt x="11336" y="14808"/>
                </a:cubicBezTo>
                <a:cubicBezTo>
                  <a:pt x="11312" y="14846"/>
                  <a:pt x="11292" y="14843"/>
                  <a:pt x="11336" y="14858"/>
                </a:cubicBezTo>
              </a:path>
              <a:path w="2506" h="5781">
                <a:moveTo>
                  <a:pt x="10939" y="14213"/>
                </a:moveTo>
                <a:cubicBezTo>
                  <a:pt x="10963" y="14173"/>
                  <a:pt x="11044" y="14143"/>
                  <a:pt x="11063" y="14114"/>
                </a:cubicBezTo>
                <a:cubicBezTo>
                  <a:pt x="11063" y="14106"/>
                  <a:pt x="11063" y="14097"/>
                  <a:pt x="11063" y="14089"/>
                </a:cubicBezTo>
              </a:path>
              <a:path w="2506" h="5781">
                <a:moveTo>
                  <a:pt x="11162" y="13940"/>
                </a:moveTo>
                <a:cubicBezTo>
                  <a:pt x="11194" y="13896"/>
                  <a:pt x="11291" y="13791"/>
                  <a:pt x="11261" y="13940"/>
                </a:cubicBezTo>
                <a:cubicBezTo>
                  <a:pt x="11253" y="13957"/>
                  <a:pt x="11245" y="13973"/>
                  <a:pt x="11237" y="13990"/>
                </a:cubicBezTo>
                <a:cubicBezTo>
                  <a:pt x="11302" y="13990"/>
                  <a:pt x="11361" y="13962"/>
                  <a:pt x="11361" y="14064"/>
                </a:cubicBezTo>
                <a:cubicBezTo>
                  <a:pt x="11361" y="14146"/>
                  <a:pt x="11302" y="14286"/>
                  <a:pt x="11261" y="14163"/>
                </a:cubicBezTo>
              </a:path>
              <a:path w="2506" h="5781">
                <a:moveTo>
                  <a:pt x="11435" y="13717"/>
                </a:moveTo>
                <a:cubicBezTo>
                  <a:pt x="11468" y="13830"/>
                  <a:pt x="11512" y="13943"/>
                  <a:pt x="11534" y="14064"/>
                </a:cubicBezTo>
                <a:cubicBezTo>
                  <a:pt x="11534" y="14072"/>
                  <a:pt x="11534" y="14081"/>
                  <a:pt x="11534" y="14089"/>
                </a:cubicBezTo>
              </a:path>
              <a:path w="2506" h="5781">
                <a:moveTo>
                  <a:pt x="10368" y="14734"/>
                </a:moveTo>
                <a:cubicBezTo>
                  <a:pt x="10574" y="14437"/>
                  <a:pt x="10857" y="14240"/>
                  <a:pt x="11137" y="14015"/>
                </a:cubicBezTo>
                <a:cubicBezTo>
                  <a:pt x="11313" y="13874"/>
                  <a:pt x="11434" y="13780"/>
                  <a:pt x="11633" y="13692"/>
                </a:cubicBezTo>
              </a:path>
              <a:path w="2506" h="5781">
                <a:moveTo>
                  <a:pt x="10517" y="13593"/>
                </a:moveTo>
                <a:cubicBezTo>
                  <a:pt x="10517" y="13729"/>
                  <a:pt x="10529" y="13857"/>
                  <a:pt x="10542" y="13990"/>
                </a:cubicBezTo>
                <a:cubicBezTo>
                  <a:pt x="10542" y="14006"/>
                  <a:pt x="10542" y="14023"/>
                  <a:pt x="10542" y="1403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76960" y="5688000"/>
            <a:ext cx="625320" cy="662040"/>
          </a:xfrm>
          <a:custGeom>
            <a:avLst/>
            <a:gdLst/>
            <a:ahLst/>
            <a:rect l="l" t="t" r="r" b="b"/>
            <a:pathLst>
              <a:path w="1737" h="1836">
                <a:moveTo>
                  <a:pt x="17462" y="16768"/>
                </a:moveTo>
                <a:cubicBezTo>
                  <a:pt x="17517" y="16768"/>
                  <a:pt x="17556" y="16747"/>
                  <a:pt x="17611" y="16743"/>
                </a:cubicBezTo>
                <a:cubicBezTo>
                  <a:pt x="17636" y="16743"/>
                  <a:pt x="17644" y="16743"/>
                  <a:pt x="17661" y="16743"/>
                </a:cubicBezTo>
              </a:path>
              <a:path w="1737" h="1836">
                <a:moveTo>
                  <a:pt x="17462" y="16966"/>
                </a:moveTo>
                <a:cubicBezTo>
                  <a:pt x="17511" y="16954"/>
                  <a:pt x="17566" y="16930"/>
                  <a:pt x="17611" y="16917"/>
                </a:cubicBezTo>
                <a:cubicBezTo>
                  <a:pt x="17636" y="16917"/>
                  <a:pt x="17644" y="16917"/>
                  <a:pt x="17661" y="16917"/>
                </a:cubicBezTo>
              </a:path>
              <a:path w="1737" h="1836">
                <a:moveTo>
                  <a:pt x="17884" y="16396"/>
                </a:moveTo>
                <a:cubicBezTo>
                  <a:pt x="17884" y="16555"/>
                  <a:pt x="17918" y="16706"/>
                  <a:pt x="17909" y="16867"/>
                </a:cubicBezTo>
                <a:cubicBezTo>
                  <a:pt x="17902" y="16992"/>
                  <a:pt x="17859" y="17364"/>
                  <a:pt x="17859" y="17239"/>
                </a:cubicBezTo>
                <a:cubicBezTo>
                  <a:pt x="17859" y="17231"/>
                  <a:pt x="17859" y="17222"/>
                  <a:pt x="17859" y="17214"/>
                </a:cubicBezTo>
              </a:path>
              <a:path w="1737" h="1836">
                <a:moveTo>
                  <a:pt x="18355" y="16073"/>
                </a:moveTo>
                <a:cubicBezTo>
                  <a:pt x="18355" y="16142"/>
                  <a:pt x="18344" y="16231"/>
                  <a:pt x="18331" y="16297"/>
                </a:cubicBezTo>
                <a:cubicBezTo>
                  <a:pt x="18306" y="16419"/>
                  <a:pt x="18282" y="16396"/>
                  <a:pt x="18405" y="16371"/>
                </a:cubicBezTo>
                <a:cubicBezTo>
                  <a:pt x="18413" y="16371"/>
                  <a:pt x="18422" y="16371"/>
                  <a:pt x="18430" y="16371"/>
                </a:cubicBezTo>
              </a:path>
              <a:path w="1737" h="1836">
                <a:moveTo>
                  <a:pt x="18430" y="16073"/>
                </a:moveTo>
                <a:cubicBezTo>
                  <a:pt x="18430" y="16272"/>
                  <a:pt x="18430" y="16470"/>
                  <a:pt x="18430" y="16669"/>
                </a:cubicBezTo>
              </a:path>
              <a:path w="1737" h="1836">
                <a:moveTo>
                  <a:pt x="18207" y="16892"/>
                </a:moveTo>
                <a:cubicBezTo>
                  <a:pt x="18302" y="16860"/>
                  <a:pt x="18433" y="16832"/>
                  <a:pt x="18529" y="16793"/>
                </a:cubicBezTo>
                <a:cubicBezTo>
                  <a:pt x="18622" y="16755"/>
                  <a:pt x="18580" y="16743"/>
                  <a:pt x="18653" y="16743"/>
                </a:cubicBezTo>
              </a:path>
              <a:path w="1737" h="1836">
                <a:moveTo>
                  <a:pt x="18455" y="16942"/>
                </a:moveTo>
                <a:cubicBezTo>
                  <a:pt x="18407" y="16950"/>
                  <a:pt x="18279" y="16962"/>
                  <a:pt x="18256" y="17016"/>
                </a:cubicBezTo>
                <a:cubicBezTo>
                  <a:pt x="18242" y="17049"/>
                  <a:pt x="18256" y="17129"/>
                  <a:pt x="18256" y="17165"/>
                </a:cubicBezTo>
                <a:cubicBezTo>
                  <a:pt x="18333" y="17165"/>
                  <a:pt x="18336" y="17138"/>
                  <a:pt x="18405" y="17115"/>
                </a:cubicBezTo>
                <a:cubicBezTo>
                  <a:pt x="18413" y="17115"/>
                  <a:pt x="18422" y="17115"/>
                  <a:pt x="18430" y="17115"/>
                </a:cubicBezTo>
                <a:cubicBezTo>
                  <a:pt x="18458" y="17179"/>
                  <a:pt x="18506" y="17278"/>
                  <a:pt x="18430" y="17338"/>
                </a:cubicBezTo>
                <a:cubicBezTo>
                  <a:pt x="18369" y="17386"/>
                  <a:pt x="18257" y="17388"/>
                  <a:pt x="18182" y="17388"/>
                </a:cubicBezTo>
              </a:path>
              <a:path w="1737" h="1836">
                <a:moveTo>
                  <a:pt x="17735" y="17562"/>
                </a:moveTo>
                <a:cubicBezTo>
                  <a:pt x="17800" y="17578"/>
                  <a:pt x="17865" y="17593"/>
                  <a:pt x="17934" y="17611"/>
                </a:cubicBezTo>
                <a:cubicBezTo>
                  <a:pt x="18064" y="17645"/>
                  <a:pt x="18226" y="17645"/>
                  <a:pt x="18355" y="17611"/>
                </a:cubicBezTo>
                <a:cubicBezTo>
                  <a:pt x="18516" y="17569"/>
                  <a:pt x="18689" y="17478"/>
                  <a:pt x="18827" y="17388"/>
                </a:cubicBezTo>
                <a:cubicBezTo>
                  <a:pt x="18971" y="17295"/>
                  <a:pt x="19066" y="17177"/>
                  <a:pt x="19124" y="17016"/>
                </a:cubicBezTo>
                <a:cubicBezTo>
                  <a:pt x="19178" y="16865"/>
                  <a:pt x="19157" y="16697"/>
                  <a:pt x="19149" y="16545"/>
                </a:cubicBezTo>
                <a:cubicBezTo>
                  <a:pt x="19142" y="16415"/>
                  <a:pt x="19123" y="16272"/>
                  <a:pt x="19075" y="16148"/>
                </a:cubicBezTo>
                <a:cubicBezTo>
                  <a:pt x="19011" y="15984"/>
                  <a:pt x="18892" y="15979"/>
                  <a:pt x="18752" y="15900"/>
                </a:cubicBezTo>
                <a:cubicBezTo>
                  <a:pt x="18649" y="15841"/>
                  <a:pt x="18528" y="15793"/>
                  <a:pt x="18405" y="15801"/>
                </a:cubicBezTo>
                <a:cubicBezTo>
                  <a:pt x="18238" y="15811"/>
                  <a:pt x="18031" y="15897"/>
                  <a:pt x="17884" y="15974"/>
                </a:cubicBezTo>
                <a:cubicBezTo>
                  <a:pt x="17735" y="16052"/>
                  <a:pt x="17638" y="16173"/>
                  <a:pt x="17562" y="16321"/>
                </a:cubicBezTo>
                <a:cubicBezTo>
                  <a:pt x="17494" y="16454"/>
                  <a:pt x="17489" y="16580"/>
                  <a:pt x="17462" y="16718"/>
                </a:cubicBezTo>
                <a:cubicBezTo>
                  <a:pt x="17442" y="16821"/>
                  <a:pt x="17421" y="16934"/>
                  <a:pt x="17438" y="17041"/>
                </a:cubicBezTo>
                <a:cubicBezTo>
                  <a:pt x="17451" y="17124"/>
                  <a:pt x="17474" y="17210"/>
                  <a:pt x="17512" y="17289"/>
                </a:cubicBezTo>
                <a:cubicBezTo>
                  <a:pt x="17559" y="17387"/>
                  <a:pt x="17611" y="17458"/>
                  <a:pt x="17686" y="17537"/>
                </a:cubicBezTo>
                <a:cubicBezTo>
                  <a:pt x="17732" y="17586"/>
                  <a:pt x="17801" y="17625"/>
                  <a:pt x="17859" y="17636"/>
                </a:cubicBezTo>
                <a:cubicBezTo>
                  <a:pt x="17884" y="17636"/>
                  <a:pt x="17892" y="17636"/>
                  <a:pt x="17909" y="1763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491000" y="3875040"/>
            <a:ext cx="54000" cy="98640"/>
          </a:xfrm>
          <a:custGeom>
            <a:avLst/>
            <a:gdLst/>
            <a:ahLst/>
            <a:rect l="l" t="t" r="r" b="b"/>
            <a:pathLst>
              <a:path w="150" h="274">
                <a:moveTo>
                  <a:pt x="12502" y="10790"/>
                </a:moveTo>
                <a:cubicBezTo>
                  <a:pt x="12494" y="10790"/>
                  <a:pt x="12485" y="10790"/>
                  <a:pt x="12477" y="10790"/>
                </a:cubicBezTo>
                <a:cubicBezTo>
                  <a:pt x="12522" y="10813"/>
                  <a:pt x="12544" y="10867"/>
                  <a:pt x="12601" y="10889"/>
                </a:cubicBezTo>
                <a:cubicBezTo>
                  <a:pt x="12601" y="10914"/>
                  <a:pt x="12601" y="10922"/>
                  <a:pt x="12626" y="10914"/>
                </a:cubicBezTo>
              </a:path>
              <a:path w="150" h="274">
                <a:moveTo>
                  <a:pt x="12626" y="10765"/>
                </a:moveTo>
                <a:cubicBezTo>
                  <a:pt x="12602" y="10836"/>
                  <a:pt x="12548" y="10923"/>
                  <a:pt x="12502" y="10988"/>
                </a:cubicBezTo>
                <a:cubicBezTo>
                  <a:pt x="12479" y="11011"/>
                  <a:pt x="12471" y="11015"/>
                  <a:pt x="12477" y="1103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37080" y="3321000"/>
            <a:ext cx="79200" cy="81000"/>
          </a:xfrm>
          <a:custGeom>
            <a:avLst/>
            <a:gdLst/>
            <a:ahLst/>
            <a:rect l="l" t="t" r="r" b="b"/>
            <a:pathLst>
              <a:path w="224" h="225">
                <a:moveTo>
                  <a:pt x="12675" y="9252"/>
                </a:moveTo>
                <a:cubicBezTo>
                  <a:pt x="12675" y="9244"/>
                  <a:pt x="12675" y="9235"/>
                  <a:pt x="12675" y="9227"/>
                </a:cubicBezTo>
                <a:cubicBezTo>
                  <a:pt x="12675" y="9280"/>
                  <a:pt x="12681" y="9356"/>
                  <a:pt x="12700" y="9401"/>
                </a:cubicBezTo>
                <a:cubicBezTo>
                  <a:pt x="12723" y="9424"/>
                  <a:pt x="12731" y="9428"/>
                  <a:pt x="12725" y="9451"/>
                </a:cubicBezTo>
              </a:path>
              <a:path w="224" h="225">
                <a:moveTo>
                  <a:pt x="12601" y="9376"/>
                </a:moveTo>
                <a:cubicBezTo>
                  <a:pt x="12662" y="9364"/>
                  <a:pt x="12708" y="9351"/>
                  <a:pt x="12774" y="9351"/>
                </a:cubicBezTo>
                <a:cubicBezTo>
                  <a:pt x="12816" y="9351"/>
                  <a:pt x="12812" y="9361"/>
                  <a:pt x="12824" y="932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72040" y="6269040"/>
            <a:ext cx="455760" cy="554040"/>
          </a:xfrm>
          <a:custGeom>
            <a:avLst/>
            <a:gdLst/>
            <a:ahLst/>
            <a:rect l="l" t="t" r="r" b="b"/>
            <a:pathLst>
              <a:path w="1266" h="1539">
                <a:moveTo>
                  <a:pt x="14982" y="18107"/>
                </a:moveTo>
                <a:cubicBezTo>
                  <a:pt x="14982" y="18068"/>
                  <a:pt x="14993" y="18034"/>
                  <a:pt x="14957" y="18008"/>
                </a:cubicBezTo>
                <a:cubicBezTo>
                  <a:pt x="14912" y="17976"/>
                  <a:pt x="14828" y="17964"/>
                  <a:pt x="14784" y="18008"/>
                </a:cubicBezTo>
                <a:cubicBezTo>
                  <a:pt x="14720" y="18073"/>
                  <a:pt x="14690" y="18159"/>
                  <a:pt x="14734" y="18231"/>
                </a:cubicBezTo>
                <a:cubicBezTo>
                  <a:pt x="14849" y="18210"/>
                  <a:pt x="14903" y="18149"/>
                  <a:pt x="14957" y="18033"/>
                </a:cubicBezTo>
                <a:cubicBezTo>
                  <a:pt x="14957" y="18025"/>
                  <a:pt x="14957" y="18016"/>
                  <a:pt x="14957" y="18008"/>
                </a:cubicBezTo>
                <a:cubicBezTo>
                  <a:pt x="14957" y="18137"/>
                  <a:pt x="14958" y="18259"/>
                  <a:pt x="14932" y="18380"/>
                </a:cubicBezTo>
                <a:cubicBezTo>
                  <a:pt x="14932" y="18388"/>
                  <a:pt x="14932" y="18397"/>
                  <a:pt x="14932" y="18405"/>
                </a:cubicBezTo>
              </a:path>
              <a:path w="1266" h="1539">
                <a:moveTo>
                  <a:pt x="14585" y="18405"/>
                </a:moveTo>
                <a:cubicBezTo>
                  <a:pt x="14573" y="18309"/>
                  <a:pt x="14539" y="18234"/>
                  <a:pt x="14536" y="18132"/>
                </a:cubicBezTo>
                <a:cubicBezTo>
                  <a:pt x="14534" y="18076"/>
                  <a:pt x="14512" y="17950"/>
                  <a:pt x="14560" y="17934"/>
                </a:cubicBezTo>
                <a:cubicBezTo>
                  <a:pt x="14702" y="17886"/>
                  <a:pt x="14836" y="17841"/>
                  <a:pt x="14982" y="17810"/>
                </a:cubicBezTo>
                <a:cubicBezTo>
                  <a:pt x="15079" y="17789"/>
                  <a:pt x="15158" y="17785"/>
                  <a:pt x="15255" y="17785"/>
                </a:cubicBezTo>
              </a:path>
              <a:path w="1266" h="1539">
                <a:moveTo>
                  <a:pt x="14312" y="17959"/>
                </a:moveTo>
                <a:cubicBezTo>
                  <a:pt x="14294" y="18012"/>
                  <a:pt x="14219" y="17970"/>
                  <a:pt x="14163" y="17983"/>
                </a:cubicBezTo>
                <a:cubicBezTo>
                  <a:pt x="14076" y="18004"/>
                  <a:pt x="14089" y="18061"/>
                  <a:pt x="14089" y="18132"/>
                </a:cubicBezTo>
                <a:cubicBezTo>
                  <a:pt x="14089" y="18157"/>
                  <a:pt x="14089" y="18165"/>
                  <a:pt x="14089" y="18182"/>
                </a:cubicBezTo>
                <a:cubicBezTo>
                  <a:pt x="14156" y="18182"/>
                  <a:pt x="14240" y="18170"/>
                  <a:pt x="14288" y="18231"/>
                </a:cubicBezTo>
                <a:cubicBezTo>
                  <a:pt x="14348" y="18307"/>
                  <a:pt x="14304" y="18345"/>
                  <a:pt x="14238" y="18380"/>
                </a:cubicBezTo>
                <a:cubicBezTo>
                  <a:pt x="14185" y="18408"/>
                  <a:pt x="14148" y="18430"/>
                  <a:pt x="14089" y="18430"/>
                </a:cubicBezTo>
              </a:path>
              <a:path w="1266" h="1539">
                <a:moveTo>
                  <a:pt x="14833" y="17438"/>
                </a:moveTo>
                <a:cubicBezTo>
                  <a:pt x="14833" y="17364"/>
                  <a:pt x="14833" y="17562"/>
                  <a:pt x="14833" y="17562"/>
                </a:cubicBezTo>
                <a:cubicBezTo>
                  <a:pt x="14848" y="17638"/>
                  <a:pt x="14858" y="17681"/>
                  <a:pt x="14858" y="17760"/>
                </a:cubicBezTo>
                <a:cubicBezTo>
                  <a:pt x="14858" y="17777"/>
                  <a:pt x="14858" y="17793"/>
                  <a:pt x="14858" y="17810"/>
                </a:cubicBezTo>
              </a:path>
              <a:path w="1266" h="1539">
                <a:moveTo>
                  <a:pt x="15007" y="18455"/>
                </a:moveTo>
                <a:cubicBezTo>
                  <a:pt x="15000" y="18452"/>
                  <a:pt x="14918" y="18479"/>
                  <a:pt x="14858" y="18479"/>
                </a:cubicBezTo>
                <a:cubicBezTo>
                  <a:pt x="14850" y="18479"/>
                  <a:pt x="14841" y="18479"/>
                  <a:pt x="14833" y="18479"/>
                </a:cubicBezTo>
                <a:cubicBezTo>
                  <a:pt x="14833" y="18550"/>
                  <a:pt x="14839" y="18504"/>
                  <a:pt x="14883" y="18529"/>
                </a:cubicBezTo>
                <a:cubicBezTo>
                  <a:pt x="14933" y="18557"/>
                  <a:pt x="14943" y="18554"/>
                  <a:pt x="15007" y="18554"/>
                </a:cubicBezTo>
                <a:cubicBezTo>
                  <a:pt x="15007" y="18619"/>
                  <a:pt x="15019" y="18618"/>
                  <a:pt x="14957" y="18653"/>
                </a:cubicBezTo>
                <a:cubicBezTo>
                  <a:pt x="14917" y="18673"/>
                  <a:pt x="14911" y="18682"/>
                  <a:pt x="14883" y="18678"/>
                </a:cubicBezTo>
              </a:path>
              <a:path w="1266" h="1539">
                <a:moveTo>
                  <a:pt x="14560" y="18579"/>
                </a:moveTo>
                <a:cubicBezTo>
                  <a:pt x="14604" y="18579"/>
                  <a:pt x="14600" y="18578"/>
                  <a:pt x="14635" y="18604"/>
                </a:cubicBezTo>
              </a:path>
              <a:path w="1266" h="1539">
                <a:moveTo>
                  <a:pt x="14536" y="18802"/>
                </a:moveTo>
                <a:cubicBezTo>
                  <a:pt x="14635" y="18782"/>
                  <a:pt x="14731" y="18767"/>
                  <a:pt x="14833" y="18752"/>
                </a:cubicBezTo>
                <a:cubicBezTo>
                  <a:pt x="14966" y="18732"/>
                  <a:pt x="15099" y="18692"/>
                  <a:pt x="15230" y="18678"/>
                </a:cubicBezTo>
                <a:cubicBezTo>
                  <a:pt x="15268" y="18674"/>
                  <a:pt x="15314" y="18678"/>
                  <a:pt x="15354" y="18678"/>
                </a:cubicBezTo>
              </a:path>
              <a:path w="1266" h="1539">
                <a:moveTo>
                  <a:pt x="15032" y="18827"/>
                </a:moveTo>
                <a:cubicBezTo>
                  <a:pt x="15032" y="18852"/>
                  <a:pt x="15032" y="18876"/>
                  <a:pt x="15032" y="18901"/>
                </a:cubicBezTo>
                <a:cubicBezTo>
                  <a:pt x="15115" y="18901"/>
                  <a:pt x="15197" y="18901"/>
                  <a:pt x="15280" y="18901"/>
                </a:cubicBezTo>
              </a:path>
              <a:path w="1266" h="1539">
                <a:moveTo>
                  <a:pt x="15304" y="18728"/>
                </a:moveTo>
                <a:cubicBezTo>
                  <a:pt x="15304" y="18786"/>
                  <a:pt x="15304" y="18843"/>
                  <a:pt x="15304" y="18901"/>
                </a:cubicBezTo>
                <a:cubicBezTo>
                  <a:pt x="15339" y="18913"/>
                  <a:pt x="15329" y="18908"/>
                  <a:pt x="15329" y="1895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750080" y="4653000"/>
            <a:ext cx="1800" cy="7920"/>
          </a:xfrm>
          <a:custGeom>
            <a:avLst/>
            <a:gdLst/>
            <a:ahLst/>
            <a:rect l="l" t="t" r="r" b="b"/>
            <a:pathLst>
              <a:path w="1" h="26">
                <a:moveTo>
                  <a:pt x="21530" y="12948"/>
                </a:moveTo>
                <a:cubicBezTo>
                  <a:pt x="21530" y="12940"/>
                  <a:pt x="21530" y="12931"/>
                  <a:pt x="21530" y="1292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38960" y="2973240"/>
            <a:ext cx="438120" cy="428760"/>
          </a:xfrm>
          <a:custGeom>
            <a:avLst/>
            <a:gdLst/>
            <a:ahLst/>
            <a:rect l="l" t="t" r="r" b="b"/>
            <a:pathLst>
              <a:path w="1217" h="1192">
                <a:moveTo>
                  <a:pt x="18380" y="8533"/>
                </a:moveTo>
                <a:cubicBezTo>
                  <a:pt x="18355" y="8533"/>
                  <a:pt x="18347" y="8533"/>
                  <a:pt x="18355" y="8558"/>
                </a:cubicBezTo>
                <a:cubicBezTo>
                  <a:pt x="18399" y="8485"/>
                  <a:pt x="18498" y="8413"/>
                  <a:pt x="18579" y="8508"/>
                </a:cubicBezTo>
                <a:cubicBezTo>
                  <a:pt x="18660" y="8602"/>
                  <a:pt x="18568" y="8680"/>
                  <a:pt x="18504" y="8731"/>
                </a:cubicBezTo>
                <a:cubicBezTo>
                  <a:pt x="18607" y="8721"/>
                  <a:pt x="18790" y="8793"/>
                  <a:pt x="18728" y="8954"/>
                </a:cubicBezTo>
                <a:cubicBezTo>
                  <a:pt x="18688" y="9057"/>
                  <a:pt x="18519" y="9066"/>
                  <a:pt x="18430" y="9079"/>
                </a:cubicBezTo>
              </a:path>
              <a:path w="1217" h="1192">
                <a:moveTo>
                  <a:pt x="18207" y="9327"/>
                </a:moveTo>
                <a:cubicBezTo>
                  <a:pt x="18456" y="9413"/>
                  <a:pt x="18720" y="9505"/>
                  <a:pt x="18951" y="9302"/>
                </a:cubicBezTo>
                <a:cubicBezTo>
                  <a:pt x="19146" y="9131"/>
                  <a:pt x="19153" y="8765"/>
                  <a:pt x="19025" y="8558"/>
                </a:cubicBezTo>
                <a:cubicBezTo>
                  <a:pt x="18865" y="8300"/>
                  <a:pt x="18458" y="8221"/>
                  <a:pt x="18182" y="8285"/>
                </a:cubicBezTo>
                <a:cubicBezTo>
                  <a:pt x="17801" y="8373"/>
                  <a:pt x="17836" y="8921"/>
                  <a:pt x="17959" y="9203"/>
                </a:cubicBezTo>
                <a:cubicBezTo>
                  <a:pt x="18103" y="9396"/>
                  <a:pt x="18147" y="9461"/>
                  <a:pt x="18331" y="945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18200" y="3875040"/>
            <a:ext cx="777960" cy="1019160"/>
          </a:xfrm>
          <a:custGeom>
            <a:avLst/>
            <a:gdLst/>
            <a:ahLst/>
            <a:rect l="l" t="t" r="r" b="b"/>
            <a:pathLst>
              <a:path w="2159" h="2829">
                <a:moveTo>
                  <a:pt x="20092" y="11683"/>
                </a:moveTo>
                <a:cubicBezTo>
                  <a:pt x="20040" y="11673"/>
                  <a:pt x="19994" y="11644"/>
                  <a:pt x="19943" y="11633"/>
                </a:cubicBezTo>
                <a:cubicBezTo>
                  <a:pt x="19856" y="11615"/>
                  <a:pt x="19805" y="11620"/>
                  <a:pt x="19720" y="11633"/>
                </a:cubicBezTo>
                <a:cubicBezTo>
                  <a:pt x="19657" y="11643"/>
                  <a:pt x="19622" y="11644"/>
                  <a:pt x="19596" y="11708"/>
                </a:cubicBezTo>
                <a:cubicBezTo>
                  <a:pt x="19570" y="11771"/>
                  <a:pt x="19623" y="11805"/>
                  <a:pt x="19645" y="11832"/>
                </a:cubicBezTo>
                <a:cubicBezTo>
                  <a:pt x="19703" y="11901"/>
                  <a:pt x="19789" y="11881"/>
                  <a:pt x="19869" y="11881"/>
                </a:cubicBezTo>
                <a:cubicBezTo>
                  <a:pt x="19969" y="11881"/>
                  <a:pt x="20067" y="11912"/>
                  <a:pt x="20141" y="11981"/>
                </a:cubicBezTo>
                <a:cubicBezTo>
                  <a:pt x="20238" y="12071"/>
                  <a:pt x="20213" y="12136"/>
                  <a:pt x="20241" y="12254"/>
                </a:cubicBezTo>
                <a:cubicBezTo>
                  <a:pt x="20259" y="12333"/>
                  <a:pt x="20251" y="12399"/>
                  <a:pt x="20216" y="12477"/>
                </a:cubicBezTo>
                <a:cubicBezTo>
                  <a:pt x="20172" y="12574"/>
                  <a:pt x="20070" y="12615"/>
                  <a:pt x="19968" y="12601"/>
                </a:cubicBezTo>
                <a:cubicBezTo>
                  <a:pt x="19914" y="12594"/>
                  <a:pt x="19734" y="12581"/>
                  <a:pt x="19695" y="12551"/>
                </a:cubicBezTo>
                <a:cubicBezTo>
                  <a:pt x="19651" y="12517"/>
                  <a:pt x="19639" y="12391"/>
                  <a:pt x="19670" y="12353"/>
                </a:cubicBezTo>
                <a:cubicBezTo>
                  <a:pt x="19737" y="12271"/>
                  <a:pt x="19826" y="12195"/>
                  <a:pt x="19893" y="12105"/>
                </a:cubicBezTo>
                <a:cubicBezTo>
                  <a:pt x="19951" y="12028"/>
                  <a:pt x="19988" y="11982"/>
                  <a:pt x="20067" y="11931"/>
                </a:cubicBezTo>
                <a:cubicBezTo>
                  <a:pt x="20149" y="11878"/>
                  <a:pt x="20141" y="11864"/>
                  <a:pt x="20191" y="11807"/>
                </a:cubicBezTo>
                <a:cubicBezTo>
                  <a:pt x="20209" y="11787"/>
                  <a:pt x="20263" y="11739"/>
                  <a:pt x="20265" y="11733"/>
                </a:cubicBezTo>
                <a:cubicBezTo>
                  <a:pt x="20265" y="11725"/>
                  <a:pt x="20265" y="11716"/>
                  <a:pt x="20265" y="11708"/>
                </a:cubicBezTo>
              </a:path>
              <a:path w="2159" h="2829">
                <a:moveTo>
                  <a:pt x="19496" y="12750"/>
                </a:moveTo>
                <a:cubicBezTo>
                  <a:pt x="19554" y="12738"/>
                  <a:pt x="19611" y="12736"/>
                  <a:pt x="19670" y="12725"/>
                </a:cubicBezTo>
                <a:cubicBezTo>
                  <a:pt x="19779" y="12705"/>
                  <a:pt x="19887" y="12676"/>
                  <a:pt x="19993" y="12650"/>
                </a:cubicBezTo>
                <a:cubicBezTo>
                  <a:pt x="20119" y="12619"/>
                  <a:pt x="20261" y="12592"/>
                  <a:pt x="20389" y="12576"/>
                </a:cubicBezTo>
                <a:cubicBezTo>
                  <a:pt x="20443" y="12569"/>
                  <a:pt x="20617" y="12543"/>
                  <a:pt x="20464" y="12601"/>
                </a:cubicBezTo>
              </a:path>
              <a:path w="2159" h="2829">
                <a:moveTo>
                  <a:pt x="19993" y="12750"/>
                </a:moveTo>
                <a:cubicBezTo>
                  <a:pt x="20044" y="12801"/>
                  <a:pt x="20081" y="12860"/>
                  <a:pt x="20117" y="12923"/>
                </a:cubicBezTo>
                <a:cubicBezTo>
                  <a:pt x="20168" y="13012"/>
                  <a:pt x="20189" y="13123"/>
                  <a:pt x="20216" y="13221"/>
                </a:cubicBezTo>
                <a:cubicBezTo>
                  <a:pt x="20240" y="13309"/>
                  <a:pt x="20275" y="13407"/>
                  <a:pt x="20290" y="13494"/>
                </a:cubicBezTo>
                <a:cubicBezTo>
                  <a:pt x="20290" y="13543"/>
                  <a:pt x="20290" y="13560"/>
                  <a:pt x="20290" y="13593"/>
                </a:cubicBezTo>
              </a:path>
              <a:path w="2159" h="2829">
                <a:moveTo>
                  <a:pt x="21034" y="12551"/>
                </a:moveTo>
                <a:cubicBezTo>
                  <a:pt x="21053" y="12607"/>
                  <a:pt x="21112" y="12599"/>
                  <a:pt x="21183" y="12601"/>
                </a:cubicBezTo>
                <a:cubicBezTo>
                  <a:pt x="21332" y="12606"/>
                  <a:pt x="21481" y="12601"/>
                  <a:pt x="21630" y="12601"/>
                </a:cubicBezTo>
              </a:path>
              <a:path w="2159" h="2829">
                <a:moveTo>
                  <a:pt x="21307" y="12204"/>
                </a:moveTo>
                <a:cubicBezTo>
                  <a:pt x="21332" y="12204"/>
                  <a:pt x="21340" y="12204"/>
                  <a:pt x="21357" y="12204"/>
                </a:cubicBezTo>
              </a:path>
              <a:path w="2159" h="2829">
                <a:moveTo>
                  <a:pt x="21406" y="10840"/>
                </a:moveTo>
                <a:cubicBezTo>
                  <a:pt x="21414" y="10832"/>
                  <a:pt x="21423" y="10823"/>
                  <a:pt x="21431" y="10815"/>
                </a:cubicBezTo>
                <a:cubicBezTo>
                  <a:pt x="21487" y="10870"/>
                  <a:pt x="21530" y="10929"/>
                  <a:pt x="21580" y="10988"/>
                </a:cubicBezTo>
              </a:path>
              <a:path w="2159" h="2829">
                <a:moveTo>
                  <a:pt x="21654" y="10765"/>
                </a:moveTo>
                <a:cubicBezTo>
                  <a:pt x="21561" y="10820"/>
                  <a:pt x="21515" y="10882"/>
                  <a:pt x="21456" y="10964"/>
                </a:cubicBezTo>
                <a:cubicBezTo>
                  <a:pt x="21420" y="11015"/>
                  <a:pt x="21440" y="11014"/>
                  <a:pt x="21481" y="1096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082000" y="5616720"/>
            <a:ext cx="7920" cy="1440"/>
          </a:xfrm>
          <a:custGeom>
            <a:avLst/>
            <a:gdLst/>
            <a:ahLst/>
            <a:rect l="l" t="t" r="r" b="b"/>
            <a:pathLst>
              <a:path w="26" h="1">
                <a:moveTo>
                  <a:pt x="22473" y="15602"/>
                </a:moveTo>
                <a:cubicBezTo>
                  <a:pt x="22465" y="15602"/>
                  <a:pt x="22456" y="15602"/>
                  <a:pt x="22448" y="1560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27920" y="5089680"/>
            <a:ext cx="2017800" cy="822240"/>
          </a:xfrm>
          <a:custGeom>
            <a:avLst/>
            <a:gdLst/>
            <a:ahLst/>
            <a:rect l="l" t="t" r="r" b="b"/>
            <a:pathLst>
              <a:path w="5607" h="2283">
                <a:moveTo>
                  <a:pt x="20638" y="14461"/>
                </a:moveTo>
                <a:cubicBezTo>
                  <a:pt x="20537" y="14444"/>
                  <a:pt x="20490" y="14431"/>
                  <a:pt x="20389" y="14461"/>
                </a:cubicBezTo>
                <a:cubicBezTo>
                  <a:pt x="20312" y="14484"/>
                  <a:pt x="20290" y="14487"/>
                  <a:pt x="20290" y="14560"/>
                </a:cubicBezTo>
                <a:cubicBezTo>
                  <a:pt x="20383" y="14665"/>
                  <a:pt x="20440" y="14629"/>
                  <a:pt x="20588" y="14660"/>
                </a:cubicBezTo>
                <a:cubicBezTo>
                  <a:pt x="20692" y="14681"/>
                  <a:pt x="20764" y="14734"/>
                  <a:pt x="20811" y="14833"/>
                </a:cubicBezTo>
                <a:cubicBezTo>
                  <a:pt x="20867" y="14950"/>
                  <a:pt x="20838" y="15016"/>
                  <a:pt x="20737" y="15081"/>
                </a:cubicBezTo>
                <a:cubicBezTo>
                  <a:pt x="20656" y="15134"/>
                  <a:pt x="20567" y="15108"/>
                  <a:pt x="20538" y="15007"/>
                </a:cubicBezTo>
                <a:cubicBezTo>
                  <a:pt x="20503" y="14884"/>
                  <a:pt x="20621" y="14726"/>
                  <a:pt x="20687" y="14635"/>
                </a:cubicBezTo>
                <a:cubicBezTo>
                  <a:pt x="20737" y="14566"/>
                  <a:pt x="20754" y="14563"/>
                  <a:pt x="20786" y="14486"/>
                </a:cubicBezTo>
              </a:path>
              <a:path w="5607" h="2283">
                <a:moveTo>
                  <a:pt x="20414" y="15478"/>
                </a:moveTo>
                <a:cubicBezTo>
                  <a:pt x="20548" y="15427"/>
                  <a:pt x="20669" y="15391"/>
                  <a:pt x="20811" y="15379"/>
                </a:cubicBezTo>
                <a:cubicBezTo>
                  <a:pt x="20940" y="15368"/>
                  <a:pt x="21056" y="15341"/>
                  <a:pt x="21183" y="15304"/>
                </a:cubicBezTo>
              </a:path>
              <a:path w="5607" h="2283">
                <a:moveTo>
                  <a:pt x="20836" y="15652"/>
                </a:moveTo>
                <a:cubicBezTo>
                  <a:pt x="20897" y="15725"/>
                  <a:pt x="20944" y="15837"/>
                  <a:pt x="20960" y="15925"/>
                </a:cubicBezTo>
                <a:cubicBezTo>
                  <a:pt x="20968" y="15966"/>
                  <a:pt x="20985" y="16303"/>
                  <a:pt x="20985" y="16098"/>
                </a:cubicBezTo>
              </a:path>
              <a:path w="5607" h="2283">
                <a:moveTo>
                  <a:pt x="21555" y="15081"/>
                </a:moveTo>
                <a:cubicBezTo>
                  <a:pt x="21580" y="15181"/>
                  <a:pt x="21694" y="15247"/>
                  <a:pt x="21754" y="15329"/>
                </a:cubicBezTo>
                <a:cubicBezTo>
                  <a:pt x="21822" y="15422"/>
                  <a:pt x="21953" y="15689"/>
                  <a:pt x="21977" y="15577"/>
                </a:cubicBezTo>
                <a:cubicBezTo>
                  <a:pt x="21977" y="15536"/>
                  <a:pt x="21977" y="15494"/>
                  <a:pt x="21977" y="15453"/>
                </a:cubicBezTo>
              </a:path>
              <a:path w="5607" h="2283">
                <a:moveTo>
                  <a:pt x="21977" y="14858"/>
                </a:moveTo>
                <a:cubicBezTo>
                  <a:pt x="21920" y="14877"/>
                  <a:pt x="21860" y="14988"/>
                  <a:pt x="21828" y="15056"/>
                </a:cubicBezTo>
                <a:cubicBezTo>
                  <a:pt x="21754" y="15213"/>
                  <a:pt x="21704" y="15381"/>
                  <a:pt x="21679" y="15553"/>
                </a:cubicBezTo>
                <a:cubicBezTo>
                  <a:pt x="21671" y="15611"/>
                  <a:pt x="21647" y="15650"/>
                  <a:pt x="21679" y="15602"/>
                </a:cubicBezTo>
              </a:path>
              <a:path w="5607" h="2283">
                <a:moveTo>
                  <a:pt x="22299" y="14660"/>
                </a:moveTo>
                <a:cubicBezTo>
                  <a:pt x="22358" y="14645"/>
                  <a:pt x="22385" y="14613"/>
                  <a:pt x="22448" y="14585"/>
                </a:cubicBezTo>
                <a:cubicBezTo>
                  <a:pt x="22561" y="14535"/>
                  <a:pt x="22596" y="14579"/>
                  <a:pt x="22696" y="14610"/>
                </a:cubicBezTo>
                <a:cubicBezTo>
                  <a:pt x="22779" y="14636"/>
                  <a:pt x="22749" y="14731"/>
                  <a:pt x="22696" y="14784"/>
                </a:cubicBezTo>
                <a:cubicBezTo>
                  <a:pt x="22634" y="14846"/>
                  <a:pt x="22551" y="14894"/>
                  <a:pt x="22473" y="14932"/>
                </a:cubicBezTo>
                <a:cubicBezTo>
                  <a:pt x="22581" y="14905"/>
                  <a:pt x="22679" y="14859"/>
                  <a:pt x="22796" y="14883"/>
                </a:cubicBezTo>
                <a:cubicBezTo>
                  <a:pt x="22881" y="14900"/>
                  <a:pt x="22908" y="15036"/>
                  <a:pt x="22895" y="15106"/>
                </a:cubicBezTo>
                <a:cubicBezTo>
                  <a:pt x="22880" y="15190"/>
                  <a:pt x="22783" y="15280"/>
                  <a:pt x="22696" y="15280"/>
                </a:cubicBezTo>
                <a:cubicBezTo>
                  <a:pt x="22657" y="15280"/>
                  <a:pt x="22580" y="15255"/>
                  <a:pt x="22572" y="15230"/>
                </a:cubicBezTo>
              </a:path>
              <a:path w="5607" h="2283">
                <a:moveTo>
                  <a:pt x="22200" y="15404"/>
                </a:moveTo>
                <a:cubicBezTo>
                  <a:pt x="22172" y="15404"/>
                  <a:pt x="22161" y="15406"/>
                  <a:pt x="22151" y="15429"/>
                </a:cubicBezTo>
                <a:cubicBezTo>
                  <a:pt x="22178" y="15469"/>
                  <a:pt x="22261" y="15453"/>
                  <a:pt x="22324" y="15453"/>
                </a:cubicBezTo>
                <a:cubicBezTo>
                  <a:pt x="22517" y="15453"/>
                  <a:pt x="22704" y="15434"/>
                  <a:pt x="22895" y="15429"/>
                </a:cubicBezTo>
                <a:cubicBezTo>
                  <a:pt x="22961" y="15427"/>
                  <a:pt x="23027" y="15429"/>
                  <a:pt x="23093" y="15429"/>
                </a:cubicBezTo>
              </a:path>
              <a:path w="5607" h="2283">
                <a:moveTo>
                  <a:pt x="22771" y="15627"/>
                </a:moveTo>
                <a:cubicBezTo>
                  <a:pt x="22675" y="15627"/>
                  <a:pt x="22633" y="15650"/>
                  <a:pt x="22547" y="15677"/>
                </a:cubicBezTo>
                <a:cubicBezTo>
                  <a:pt x="22513" y="15677"/>
                  <a:pt x="22500" y="15686"/>
                  <a:pt x="22498" y="15726"/>
                </a:cubicBezTo>
                <a:cubicBezTo>
                  <a:pt x="22529" y="15790"/>
                  <a:pt x="22623" y="15801"/>
                  <a:pt x="22696" y="15825"/>
                </a:cubicBezTo>
                <a:cubicBezTo>
                  <a:pt x="22781" y="15853"/>
                  <a:pt x="22849" y="15872"/>
                  <a:pt x="22895" y="15949"/>
                </a:cubicBezTo>
                <a:cubicBezTo>
                  <a:pt x="22926" y="16002"/>
                  <a:pt x="22920" y="16039"/>
                  <a:pt x="22920" y="16098"/>
                </a:cubicBezTo>
                <a:cubicBezTo>
                  <a:pt x="22860" y="16088"/>
                  <a:pt x="22805" y="16055"/>
                  <a:pt x="22746" y="16049"/>
                </a:cubicBezTo>
                <a:cubicBezTo>
                  <a:pt x="22721" y="16049"/>
                  <a:pt x="22713" y="16049"/>
                  <a:pt x="22721" y="16024"/>
                </a:cubicBezTo>
                <a:cubicBezTo>
                  <a:pt x="22744" y="15920"/>
                  <a:pt x="22806" y="15828"/>
                  <a:pt x="22845" y="15726"/>
                </a:cubicBezTo>
                <a:cubicBezTo>
                  <a:pt x="22858" y="15691"/>
                  <a:pt x="22873" y="15665"/>
                  <a:pt x="22895" y="15627"/>
                </a:cubicBezTo>
              </a:path>
              <a:path w="5607" h="2283">
                <a:moveTo>
                  <a:pt x="22597" y="15528"/>
                </a:moveTo>
                <a:cubicBezTo>
                  <a:pt x="22679" y="15650"/>
                  <a:pt x="22769" y="15766"/>
                  <a:pt x="22870" y="15875"/>
                </a:cubicBezTo>
                <a:cubicBezTo>
                  <a:pt x="22920" y="15929"/>
                  <a:pt x="22944" y="15952"/>
                  <a:pt x="22944" y="16024"/>
                </a:cubicBezTo>
                <a:cubicBezTo>
                  <a:pt x="22984" y="16011"/>
                  <a:pt x="22969" y="16005"/>
                  <a:pt x="22969" y="15949"/>
                </a:cubicBezTo>
              </a:path>
              <a:path w="5607" h="2283">
                <a:moveTo>
                  <a:pt x="23366" y="15900"/>
                </a:moveTo>
                <a:cubicBezTo>
                  <a:pt x="23399" y="15921"/>
                  <a:pt x="23426" y="16038"/>
                  <a:pt x="23440" y="16098"/>
                </a:cubicBezTo>
                <a:cubicBezTo>
                  <a:pt x="23459" y="16182"/>
                  <a:pt x="23467" y="16290"/>
                  <a:pt x="23490" y="16371"/>
                </a:cubicBezTo>
                <a:cubicBezTo>
                  <a:pt x="23497" y="16395"/>
                  <a:pt x="23556" y="16440"/>
                  <a:pt x="23490" y="16396"/>
                </a:cubicBezTo>
              </a:path>
              <a:path w="5607" h="2283">
                <a:moveTo>
                  <a:pt x="20067" y="14312"/>
                </a:moveTo>
                <a:cubicBezTo>
                  <a:pt x="20170" y="14459"/>
                  <a:pt x="20311" y="14581"/>
                  <a:pt x="20439" y="14709"/>
                </a:cubicBezTo>
                <a:cubicBezTo>
                  <a:pt x="20606" y="14876"/>
                  <a:pt x="20735" y="15052"/>
                  <a:pt x="20886" y="15230"/>
                </a:cubicBezTo>
                <a:cubicBezTo>
                  <a:pt x="20934" y="15286"/>
                  <a:pt x="21034" y="15402"/>
                  <a:pt x="21034" y="15329"/>
                </a:cubicBezTo>
                <a:cubicBezTo>
                  <a:pt x="21026" y="15304"/>
                  <a:pt x="21018" y="15280"/>
                  <a:pt x="21010" y="15255"/>
                </a:cubicBezTo>
              </a:path>
              <a:path w="5607" h="2283">
                <a:moveTo>
                  <a:pt x="19521" y="14337"/>
                </a:moveTo>
                <a:cubicBezTo>
                  <a:pt x="19541" y="14456"/>
                  <a:pt x="19600" y="14571"/>
                  <a:pt x="19645" y="14684"/>
                </a:cubicBezTo>
                <a:cubicBezTo>
                  <a:pt x="19684" y="14783"/>
                  <a:pt x="19732" y="14888"/>
                  <a:pt x="19769" y="14982"/>
                </a:cubicBezTo>
                <a:cubicBezTo>
                  <a:pt x="19769" y="15007"/>
                  <a:pt x="19769" y="15015"/>
                  <a:pt x="19769" y="14982"/>
                </a:cubicBezTo>
              </a:path>
              <a:path w="5607" h="2283">
                <a:moveTo>
                  <a:pt x="23763" y="14163"/>
                </a:moveTo>
                <a:cubicBezTo>
                  <a:pt x="23696" y="14163"/>
                  <a:pt x="23871" y="14137"/>
                  <a:pt x="23887" y="14139"/>
                </a:cubicBezTo>
                <a:cubicBezTo>
                  <a:pt x="23955" y="14147"/>
                  <a:pt x="23995" y="14163"/>
                  <a:pt x="24061" y="14163"/>
                </a:cubicBezTo>
                <a:cubicBezTo>
                  <a:pt x="24033" y="14290"/>
                  <a:pt x="23942" y="14368"/>
                  <a:pt x="23812" y="14412"/>
                </a:cubicBezTo>
                <a:cubicBezTo>
                  <a:pt x="23713" y="14431"/>
                  <a:pt x="23698" y="14439"/>
                  <a:pt x="23639" y="14436"/>
                </a:cubicBezTo>
                <a:cubicBezTo>
                  <a:pt x="23741" y="14457"/>
                  <a:pt x="23828" y="14492"/>
                  <a:pt x="23912" y="14560"/>
                </a:cubicBezTo>
                <a:cubicBezTo>
                  <a:pt x="24021" y="14648"/>
                  <a:pt x="24047" y="14772"/>
                  <a:pt x="23961" y="14883"/>
                </a:cubicBezTo>
                <a:cubicBezTo>
                  <a:pt x="23864" y="15008"/>
                  <a:pt x="23770" y="14980"/>
                  <a:pt x="23639" y="14957"/>
                </a:cubicBezTo>
                <a:cubicBezTo>
                  <a:pt x="23631" y="14957"/>
                  <a:pt x="23622" y="14957"/>
                  <a:pt x="23614" y="14957"/>
                </a:cubicBezTo>
              </a:path>
              <a:path w="5607" h="2283">
                <a:moveTo>
                  <a:pt x="23416" y="15106"/>
                </a:moveTo>
                <a:cubicBezTo>
                  <a:pt x="23633" y="15106"/>
                  <a:pt x="23850" y="15097"/>
                  <a:pt x="24061" y="15131"/>
                </a:cubicBezTo>
                <a:cubicBezTo>
                  <a:pt x="24122" y="15141"/>
                  <a:pt x="24108" y="15125"/>
                  <a:pt x="24036" y="15156"/>
                </a:cubicBezTo>
              </a:path>
              <a:path w="5607" h="2283">
                <a:moveTo>
                  <a:pt x="23564" y="15503"/>
                </a:moveTo>
                <a:cubicBezTo>
                  <a:pt x="23584" y="15591"/>
                  <a:pt x="23603" y="15687"/>
                  <a:pt x="23614" y="15776"/>
                </a:cubicBezTo>
                <a:cubicBezTo>
                  <a:pt x="23625" y="15864"/>
                  <a:pt x="23564" y="15900"/>
                  <a:pt x="23614" y="15900"/>
                </a:cubicBezTo>
              </a:path>
              <a:path w="5607" h="2283">
                <a:moveTo>
                  <a:pt x="24433" y="14808"/>
                </a:moveTo>
                <a:cubicBezTo>
                  <a:pt x="24410" y="14831"/>
                  <a:pt x="24402" y="14835"/>
                  <a:pt x="24408" y="14858"/>
                </a:cubicBezTo>
                <a:cubicBezTo>
                  <a:pt x="24470" y="14871"/>
                  <a:pt x="24545" y="14867"/>
                  <a:pt x="24606" y="14883"/>
                </a:cubicBezTo>
                <a:cubicBezTo>
                  <a:pt x="24623" y="14891"/>
                  <a:pt x="24639" y="14900"/>
                  <a:pt x="24656" y="14908"/>
                </a:cubicBezTo>
              </a:path>
              <a:path w="5607" h="2283">
                <a:moveTo>
                  <a:pt x="24408" y="15056"/>
                </a:moveTo>
                <a:cubicBezTo>
                  <a:pt x="24478" y="15056"/>
                  <a:pt x="24537" y="15077"/>
                  <a:pt x="24606" y="15081"/>
                </a:cubicBezTo>
                <a:cubicBezTo>
                  <a:pt x="24623" y="15081"/>
                  <a:pt x="24639" y="15081"/>
                  <a:pt x="24656" y="15081"/>
                </a:cubicBezTo>
              </a:path>
              <a:path w="5607" h="2283">
                <a:moveTo>
                  <a:pt x="24829" y="14461"/>
                </a:moveTo>
                <a:cubicBezTo>
                  <a:pt x="24939" y="14433"/>
                  <a:pt x="24980" y="14430"/>
                  <a:pt x="25078" y="14486"/>
                </a:cubicBezTo>
                <a:cubicBezTo>
                  <a:pt x="25175" y="14541"/>
                  <a:pt x="25103" y="14652"/>
                  <a:pt x="25028" y="14709"/>
                </a:cubicBezTo>
                <a:cubicBezTo>
                  <a:pt x="24968" y="14754"/>
                  <a:pt x="24821" y="14776"/>
                  <a:pt x="24780" y="14833"/>
                </a:cubicBezTo>
                <a:cubicBezTo>
                  <a:pt x="24780" y="14841"/>
                  <a:pt x="24780" y="14850"/>
                  <a:pt x="24780" y="14858"/>
                </a:cubicBezTo>
                <a:cubicBezTo>
                  <a:pt x="24880" y="14903"/>
                  <a:pt x="24939" y="14938"/>
                  <a:pt x="25003" y="15032"/>
                </a:cubicBezTo>
                <a:cubicBezTo>
                  <a:pt x="25049" y="15099"/>
                  <a:pt x="25037" y="15210"/>
                  <a:pt x="25003" y="15280"/>
                </a:cubicBezTo>
                <a:cubicBezTo>
                  <a:pt x="24956" y="15378"/>
                  <a:pt x="24843" y="15457"/>
                  <a:pt x="24755" y="15503"/>
                </a:cubicBezTo>
                <a:cubicBezTo>
                  <a:pt x="24728" y="15517"/>
                  <a:pt x="24610" y="15557"/>
                  <a:pt x="24581" y="15528"/>
                </a:cubicBezTo>
                <a:cubicBezTo>
                  <a:pt x="24581" y="15520"/>
                  <a:pt x="24581" y="15511"/>
                  <a:pt x="24581" y="1550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446960" y="3303720"/>
            <a:ext cx="250920" cy="161640"/>
          </a:xfrm>
          <a:custGeom>
            <a:avLst/>
            <a:gdLst/>
            <a:ahLst/>
            <a:rect l="l" t="t" r="r" b="b"/>
            <a:pathLst>
              <a:path w="696" h="447">
                <a:moveTo>
                  <a:pt x="21010" y="9227"/>
                </a:moveTo>
                <a:cubicBezTo>
                  <a:pt x="20936" y="9213"/>
                  <a:pt x="20916" y="9182"/>
                  <a:pt x="20836" y="9178"/>
                </a:cubicBezTo>
                <a:cubicBezTo>
                  <a:pt x="20742" y="9173"/>
                  <a:pt x="20687" y="9289"/>
                  <a:pt x="20687" y="9376"/>
                </a:cubicBezTo>
                <a:cubicBezTo>
                  <a:pt x="20687" y="9517"/>
                  <a:pt x="20776" y="9518"/>
                  <a:pt x="20886" y="9525"/>
                </a:cubicBezTo>
                <a:cubicBezTo>
                  <a:pt x="20930" y="9528"/>
                  <a:pt x="20948" y="9536"/>
                  <a:pt x="20960" y="9500"/>
                </a:cubicBezTo>
                <a:cubicBezTo>
                  <a:pt x="20943" y="9449"/>
                  <a:pt x="20903" y="9478"/>
                  <a:pt x="20861" y="9500"/>
                </a:cubicBezTo>
                <a:cubicBezTo>
                  <a:pt x="20844" y="9508"/>
                  <a:pt x="20828" y="9517"/>
                  <a:pt x="20811" y="9525"/>
                </a:cubicBezTo>
              </a:path>
              <a:path w="696" h="447">
                <a:moveTo>
                  <a:pt x="21134" y="9252"/>
                </a:moveTo>
                <a:cubicBezTo>
                  <a:pt x="21158" y="9252"/>
                  <a:pt x="21167" y="9252"/>
                  <a:pt x="21183" y="9252"/>
                </a:cubicBezTo>
              </a:path>
              <a:path w="696" h="447">
                <a:moveTo>
                  <a:pt x="21307" y="9302"/>
                </a:moveTo>
                <a:cubicBezTo>
                  <a:pt x="21307" y="9382"/>
                  <a:pt x="21321" y="9448"/>
                  <a:pt x="21332" y="9525"/>
                </a:cubicBezTo>
                <a:cubicBezTo>
                  <a:pt x="21332" y="9575"/>
                  <a:pt x="21332" y="9591"/>
                  <a:pt x="21332" y="9624"/>
                </a:cubicBezTo>
              </a:path>
              <a:path w="696" h="447">
                <a:moveTo>
                  <a:pt x="21258" y="9451"/>
                </a:moveTo>
                <a:cubicBezTo>
                  <a:pt x="21220" y="9438"/>
                  <a:pt x="21237" y="9426"/>
                  <a:pt x="21183" y="9426"/>
                </a:cubicBezTo>
                <a:cubicBezTo>
                  <a:pt x="21232" y="9401"/>
                  <a:pt x="21274" y="9401"/>
                  <a:pt x="21332" y="9401"/>
                </a:cubicBezTo>
                <a:cubicBezTo>
                  <a:pt x="21357" y="9401"/>
                  <a:pt x="21365" y="9401"/>
                  <a:pt x="21382" y="940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062920" y="3402000"/>
            <a:ext cx="27000" cy="9360"/>
          </a:xfrm>
          <a:custGeom>
            <a:avLst/>
            <a:gdLst/>
            <a:ahLst/>
            <a:rect l="l" t="t" r="r" b="b"/>
            <a:pathLst>
              <a:path w="75" h="25">
                <a:moveTo>
                  <a:pt x="22399" y="9451"/>
                </a:moveTo>
                <a:cubicBezTo>
                  <a:pt x="22428" y="9458"/>
                  <a:pt x="22444" y="9468"/>
                  <a:pt x="22473" y="947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055000" y="3456000"/>
            <a:ext cx="54000" cy="9360"/>
          </a:xfrm>
          <a:custGeom>
            <a:avLst/>
            <a:gdLst/>
            <a:ahLst/>
            <a:rect l="l" t="t" r="r" b="b"/>
            <a:pathLst>
              <a:path w="150" h="26">
                <a:moveTo>
                  <a:pt x="22374" y="9599"/>
                </a:moveTo>
                <a:cubicBezTo>
                  <a:pt x="22435" y="9616"/>
                  <a:pt x="22462" y="9624"/>
                  <a:pt x="22523" y="962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197920" y="3394080"/>
            <a:ext cx="61920" cy="160200"/>
          </a:xfrm>
          <a:custGeom>
            <a:avLst/>
            <a:gdLst/>
            <a:ahLst/>
            <a:rect l="l" t="t" r="r" b="b"/>
            <a:pathLst>
              <a:path w="174" h="447">
                <a:moveTo>
                  <a:pt x="22920" y="9475"/>
                </a:moveTo>
                <a:cubicBezTo>
                  <a:pt x="22905" y="9416"/>
                  <a:pt x="22879" y="9426"/>
                  <a:pt x="22820" y="9426"/>
                </a:cubicBezTo>
                <a:cubicBezTo>
                  <a:pt x="22796" y="9426"/>
                  <a:pt x="22788" y="9426"/>
                  <a:pt x="22796" y="9451"/>
                </a:cubicBezTo>
                <a:cubicBezTo>
                  <a:pt x="22823" y="9533"/>
                  <a:pt x="22899" y="9610"/>
                  <a:pt x="22920" y="9699"/>
                </a:cubicBezTo>
                <a:cubicBezTo>
                  <a:pt x="22932" y="9750"/>
                  <a:pt x="22884" y="9872"/>
                  <a:pt x="22820" y="9872"/>
                </a:cubicBezTo>
                <a:cubicBezTo>
                  <a:pt x="22812" y="9864"/>
                  <a:pt x="22804" y="9855"/>
                  <a:pt x="22796" y="9847"/>
                </a:cubicBezTo>
                <a:cubicBezTo>
                  <a:pt x="22762" y="9763"/>
                  <a:pt x="22855" y="9694"/>
                  <a:pt x="22920" y="9624"/>
                </a:cubicBezTo>
                <a:cubicBezTo>
                  <a:pt x="22942" y="9602"/>
                  <a:pt x="22950" y="9597"/>
                  <a:pt x="22944" y="957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966080" y="4295880"/>
            <a:ext cx="357120" cy="588960"/>
          </a:xfrm>
          <a:custGeom>
            <a:avLst/>
            <a:gdLst/>
            <a:ahLst/>
            <a:rect l="l" t="t" r="r" b="b"/>
            <a:pathLst>
              <a:path w="993" h="1638">
                <a:moveTo>
                  <a:pt x="22622" y="11931"/>
                </a:moveTo>
                <a:cubicBezTo>
                  <a:pt x="22513" y="11931"/>
                  <a:pt x="22402" y="11916"/>
                  <a:pt x="22299" y="11956"/>
                </a:cubicBezTo>
                <a:cubicBezTo>
                  <a:pt x="22283" y="11964"/>
                  <a:pt x="22266" y="11973"/>
                  <a:pt x="22250" y="11981"/>
                </a:cubicBezTo>
                <a:cubicBezTo>
                  <a:pt x="22270" y="12081"/>
                  <a:pt x="22320" y="12112"/>
                  <a:pt x="22423" y="12129"/>
                </a:cubicBezTo>
                <a:cubicBezTo>
                  <a:pt x="22526" y="12146"/>
                  <a:pt x="22561" y="12187"/>
                  <a:pt x="22622" y="12278"/>
                </a:cubicBezTo>
                <a:cubicBezTo>
                  <a:pt x="22639" y="12303"/>
                  <a:pt x="22675" y="12427"/>
                  <a:pt x="22647" y="12452"/>
                </a:cubicBezTo>
                <a:cubicBezTo>
                  <a:pt x="22575" y="12517"/>
                  <a:pt x="22510" y="12464"/>
                  <a:pt x="22473" y="12402"/>
                </a:cubicBezTo>
                <a:cubicBezTo>
                  <a:pt x="22405" y="12287"/>
                  <a:pt x="22529" y="12188"/>
                  <a:pt x="22597" y="12105"/>
                </a:cubicBezTo>
                <a:cubicBezTo>
                  <a:pt x="22620" y="12077"/>
                  <a:pt x="22657" y="12012"/>
                  <a:pt x="22671" y="12005"/>
                </a:cubicBezTo>
                <a:cubicBezTo>
                  <a:pt x="22696" y="12005"/>
                  <a:pt x="22704" y="12005"/>
                  <a:pt x="22696" y="11981"/>
                </a:cubicBezTo>
              </a:path>
              <a:path w="993" h="1638">
                <a:moveTo>
                  <a:pt x="22126" y="12700"/>
                </a:moveTo>
                <a:cubicBezTo>
                  <a:pt x="22237" y="12700"/>
                  <a:pt x="22339" y="12719"/>
                  <a:pt x="22448" y="12725"/>
                </a:cubicBezTo>
                <a:cubicBezTo>
                  <a:pt x="22573" y="12732"/>
                  <a:pt x="23120" y="12716"/>
                  <a:pt x="23068" y="12725"/>
                </a:cubicBezTo>
                <a:cubicBezTo>
                  <a:pt x="23027" y="12733"/>
                  <a:pt x="22985" y="12742"/>
                  <a:pt x="22944" y="12750"/>
                </a:cubicBezTo>
              </a:path>
              <a:path w="993" h="1638">
                <a:moveTo>
                  <a:pt x="22399" y="12898"/>
                </a:moveTo>
                <a:cubicBezTo>
                  <a:pt x="22507" y="12872"/>
                  <a:pt x="22633" y="12836"/>
                  <a:pt x="22746" y="12849"/>
                </a:cubicBezTo>
                <a:cubicBezTo>
                  <a:pt x="22814" y="12857"/>
                  <a:pt x="22854" y="12874"/>
                  <a:pt x="22920" y="12874"/>
                </a:cubicBezTo>
                <a:cubicBezTo>
                  <a:pt x="22920" y="12988"/>
                  <a:pt x="22922" y="12996"/>
                  <a:pt x="22820" y="13047"/>
                </a:cubicBezTo>
                <a:cubicBezTo>
                  <a:pt x="22760" y="13077"/>
                  <a:pt x="22710" y="13109"/>
                  <a:pt x="22647" y="13122"/>
                </a:cubicBezTo>
                <a:cubicBezTo>
                  <a:pt x="22723" y="13133"/>
                  <a:pt x="22849" y="13146"/>
                  <a:pt x="22920" y="13171"/>
                </a:cubicBezTo>
                <a:cubicBezTo>
                  <a:pt x="22974" y="13190"/>
                  <a:pt x="22981" y="13301"/>
                  <a:pt x="22969" y="13345"/>
                </a:cubicBezTo>
                <a:cubicBezTo>
                  <a:pt x="22930" y="13486"/>
                  <a:pt x="22817" y="13504"/>
                  <a:pt x="22696" y="13543"/>
                </a:cubicBezTo>
                <a:cubicBezTo>
                  <a:pt x="22599" y="13574"/>
                  <a:pt x="22559" y="13591"/>
                  <a:pt x="22498" y="1351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02000" y="6518160"/>
            <a:ext cx="241200" cy="54000"/>
          </a:xfrm>
          <a:custGeom>
            <a:avLst/>
            <a:gdLst/>
            <a:ahLst/>
            <a:rect l="l" t="t" r="r" b="b"/>
            <a:pathLst>
              <a:path w="670" h="150">
                <a:moveTo>
                  <a:pt x="9451" y="18256"/>
                </a:moveTo>
                <a:cubicBezTo>
                  <a:pt x="9673" y="18186"/>
                  <a:pt x="9869" y="18109"/>
                  <a:pt x="10096" y="18132"/>
                </a:cubicBezTo>
                <a:cubicBezTo>
                  <a:pt x="10104" y="18132"/>
                  <a:pt x="10112" y="18132"/>
                  <a:pt x="10120" y="1813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90920" y="6589800"/>
            <a:ext cx="117360" cy="125280"/>
          </a:xfrm>
          <a:custGeom>
            <a:avLst/>
            <a:gdLst/>
            <a:ahLst/>
            <a:rect l="l" t="t" r="r" b="b"/>
            <a:pathLst>
              <a:path w="323" h="348">
                <a:moveTo>
                  <a:pt x="9773" y="18380"/>
                </a:moveTo>
                <a:cubicBezTo>
                  <a:pt x="9808" y="18368"/>
                  <a:pt x="9840" y="18323"/>
                  <a:pt x="9897" y="18306"/>
                </a:cubicBezTo>
                <a:cubicBezTo>
                  <a:pt x="9905" y="18306"/>
                  <a:pt x="9914" y="18306"/>
                  <a:pt x="9922" y="18306"/>
                </a:cubicBezTo>
                <a:cubicBezTo>
                  <a:pt x="9892" y="18410"/>
                  <a:pt x="9829" y="18561"/>
                  <a:pt x="9723" y="18628"/>
                </a:cubicBezTo>
                <a:cubicBezTo>
                  <a:pt x="9715" y="18628"/>
                  <a:pt x="9707" y="18628"/>
                  <a:pt x="9699" y="18628"/>
                </a:cubicBezTo>
                <a:cubicBezTo>
                  <a:pt x="9814" y="18654"/>
                  <a:pt x="9879" y="18586"/>
                  <a:pt x="9996" y="18554"/>
                </a:cubicBezTo>
                <a:cubicBezTo>
                  <a:pt x="10004" y="18554"/>
                  <a:pt x="10013" y="18554"/>
                  <a:pt x="10021" y="1855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70200" y="6188040"/>
            <a:ext cx="44640" cy="9720"/>
          </a:xfrm>
          <a:custGeom>
            <a:avLst/>
            <a:gdLst/>
            <a:ahLst/>
            <a:rect l="l" t="t" r="r" b="b"/>
            <a:pathLst>
              <a:path w="125" h="25">
                <a:moveTo>
                  <a:pt x="10195" y="17190"/>
                </a:moveTo>
                <a:cubicBezTo>
                  <a:pt x="10238" y="17215"/>
                  <a:pt x="10267" y="17214"/>
                  <a:pt x="10319" y="1721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67120" y="6126120"/>
            <a:ext cx="125280" cy="98640"/>
          </a:xfrm>
          <a:custGeom>
            <a:avLst/>
            <a:gdLst/>
            <a:ahLst/>
            <a:rect l="l" t="t" r="r" b="b"/>
            <a:pathLst>
              <a:path w="349" h="274">
                <a:moveTo>
                  <a:pt x="10790" y="17016"/>
                </a:moveTo>
                <a:cubicBezTo>
                  <a:pt x="10772" y="17106"/>
                  <a:pt x="10747" y="17193"/>
                  <a:pt x="10740" y="17289"/>
                </a:cubicBezTo>
                <a:cubicBezTo>
                  <a:pt x="10861" y="17275"/>
                  <a:pt x="10969" y="17234"/>
                  <a:pt x="11088" y="1721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83040" y="6072120"/>
            <a:ext cx="34920" cy="322200"/>
          </a:xfrm>
          <a:custGeom>
            <a:avLst/>
            <a:gdLst/>
            <a:ahLst/>
            <a:rect l="l" t="t" r="r" b="b"/>
            <a:pathLst>
              <a:path w="100" h="894">
                <a:moveTo>
                  <a:pt x="11063" y="16867"/>
                </a:moveTo>
                <a:cubicBezTo>
                  <a:pt x="11063" y="17093"/>
                  <a:pt x="11082" y="17313"/>
                  <a:pt x="11112" y="17537"/>
                </a:cubicBezTo>
                <a:cubicBezTo>
                  <a:pt x="11126" y="17640"/>
                  <a:pt x="11120" y="17736"/>
                  <a:pt x="11162" y="1773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106880" y="6018120"/>
            <a:ext cx="100080" cy="117720"/>
          </a:xfrm>
          <a:custGeom>
            <a:avLst/>
            <a:gdLst/>
            <a:ahLst/>
            <a:rect l="l" t="t" r="r" b="b"/>
            <a:pathLst>
              <a:path w="274" h="324">
                <a:moveTo>
                  <a:pt x="11435" y="16743"/>
                </a:moveTo>
                <a:cubicBezTo>
                  <a:pt x="11374" y="16743"/>
                  <a:pt x="11507" y="16711"/>
                  <a:pt x="11534" y="16718"/>
                </a:cubicBezTo>
                <a:cubicBezTo>
                  <a:pt x="11687" y="16756"/>
                  <a:pt x="11466" y="16965"/>
                  <a:pt x="11435" y="17016"/>
                </a:cubicBezTo>
                <a:cubicBezTo>
                  <a:pt x="11435" y="17024"/>
                  <a:pt x="11435" y="17033"/>
                  <a:pt x="11435" y="17041"/>
                </a:cubicBezTo>
                <a:cubicBezTo>
                  <a:pt x="11509" y="17026"/>
                  <a:pt x="11582" y="16984"/>
                  <a:pt x="11658" y="16966"/>
                </a:cubicBezTo>
                <a:cubicBezTo>
                  <a:pt x="11666" y="16966"/>
                  <a:pt x="11675" y="16966"/>
                  <a:pt x="11683" y="1696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321080" y="4402080"/>
            <a:ext cx="117720" cy="169920"/>
          </a:xfrm>
          <a:custGeom>
            <a:avLst/>
            <a:gdLst/>
            <a:ahLst/>
            <a:rect l="l" t="t" r="r" b="b"/>
            <a:pathLst>
              <a:path w="324" h="472">
                <a:moveTo>
                  <a:pt x="12005" y="12303"/>
                </a:moveTo>
                <a:cubicBezTo>
                  <a:pt x="12025" y="12244"/>
                  <a:pt x="12131" y="12218"/>
                  <a:pt x="12204" y="12229"/>
                </a:cubicBezTo>
                <a:cubicBezTo>
                  <a:pt x="12293" y="12243"/>
                  <a:pt x="12241" y="12416"/>
                  <a:pt x="12204" y="12452"/>
                </a:cubicBezTo>
                <a:cubicBezTo>
                  <a:pt x="12187" y="12460"/>
                  <a:pt x="12171" y="12469"/>
                  <a:pt x="12154" y="12477"/>
                </a:cubicBezTo>
                <a:cubicBezTo>
                  <a:pt x="12206" y="12468"/>
                  <a:pt x="12374" y="12444"/>
                  <a:pt x="12328" y="12576"/>
                </a:cubicBezTo>
                <a:cubicBezTo>
                  <a:pt x="12302" y="12649"/>
                  <a:pt x="12171" y="12694"/>
                  <a:pt x="12105" y="12700"/>
                </a:cubicBezTo>
                <a:cubicBezTo>
                  <a:pt x="12080" y="12700"/>
                  <a:pt x="12072" y="12700"/>
                  <a:pt x="12080" y="1267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00720" y="4384800"/>
            <a:ext cx="27000" cy="169560"/>
          </a:xfrm>
          <a:custGeom>
            <a:avLst/>
            <a:gdLst/>
            <a:ahLst/>
            <a:rect l="l" t="t" r="r" b="b"/>
            <a:pathLst>
              <a:path w="75" h="472">
                <a:moveTo>
                  <a:pt x="12502" y="12179"/>
                </a:moveTo>
                <a:cubicBezTo>
                  <a:pt x="12512" y="12324"/>
                  <a:pt x="12550" y="12458"/>
                  <a:pt x="12576" y="12601"/>
                </a:cubicBezTo>
                <a:cubicBezTo>
                  <a:pt x="12576" y="12626"/>
                  <a:pt x="12576" y="12634"/>
                  <a:pt x="12576" y="1265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249800" y="4562640"/>
            <a:ext cx="358560" cy="98280"/>
          </a:xfrm>
          <a:custGeom>
            <a:avLst/>
            <a:gdLst/>
            <a:ahLst/>
            <a:rect l="l" t="t" r="r" b="b"/>
            <a:pathLst>
              <a:path w="993" h="274">
                <a:moveTo>
                  <a:pt x="11807" y="12948"/>
                </a:moveTo>
                <a:cubicBezTo>
                  <a:pt x="11904" y="12929"/>
                  <a:pt x="12003" y="12913"/>
                  <a:pt x="12105" y="12898"/>
                </a:cubicBezTo>
                <a:cubicBezTo>
                  <a:pt x="12301" y="12869"/>
                  <a:pt x="12500" y="12834"/>
                  <a:pt x="12675" y="12750"/>
                </a:cubicBezTo>
                <a:cubicBezTo>
                  <a:pt x="12717" y="12730"/>
                  <a:pt x="12770" y="12737"/>
                  <a:pt x="12799" y="12700"/>
                </a:cubicBezTo>
                <a:cubicBezTo>
                  <a:pt x="12799" y="12692"/>
                  <a:pt x="12799" y="12683"/>
                  <a:pt x="12799" y="1267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48080" y="4687920"/>
            <a:ext cx="152640" cy="187200"/>
          </a:xfrm>
          <a:custGeom>
            <a:avLst/>
            <a:gdLst/>
            <a:ahLst/>
            <a:rect l="l" t="t" r="r" b="b"/>
            <a:pathLst>
              <a:path w="423" h="522">
                <a:moveTo>
                  <a:pt x="12502" y="13097"/>
                </a:moveTo>
                <a:cubicBezTo>
                  <a:pt x="12407" y="13065"/>
                  <a:pt x="12362" y="12999"/>
                  <a:pt x="12254" y="13047"/>
                </a:cubicBezTo>
                <a:cubicBezTo>
                  <a:pt x="12129" y="13103"/>
                  <a:pt x="12032" y="13235"/>
                  <a:pt x="12105" y="13370"/>
                </a:cubicBezTo>
                <a:cubicBezTo>
                  <a:pt x="12121" y="13386"/>
                  <a:pt x="12138" y="13403"/>
                  <a:pt x="12154" y="13419"/>
                </a:cubicBezTo>
                <a:cubicBezTo>
                  <a:pt x="12272" y="13331"/>
                  <a:pt x="12299" y="13280"/>
                  <a:pt x="12353" y="13146"/>
                </a:cubicBezTo>
                <a:cubicBezTo>
                  <a:pt x="12396" y="13264"/>
                  <a:pt x="12426" y="13395"/>
                  <a:pt x="12452" y="13519"/>
                </a:cubicBezTo>
                <a:cubicBezTo>
                  <a:pt x="12452" y="13527"/>
                  <a:pt x="12452" y="13535"/>
                  <a:pt x="12452" y="1354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037040" y="4626000"/>
            <a:ext cx="133200" cy="9360"/>
          </a:xfrm>
          <a:custGeom>
            <a:avLst/>
            <a:gdLst/>
            <a:ahLst/>
            <a:rect l="l" t="t" r="r" b="b"/>
            <a:pathLst>
              <a:path w="373" h="26">
                <a:moveTo>
                  <a:pt x="11212" y="12874"/>
                </a:moveTo>
                <a:cubicBezTo>
                  <a:pt x="11306" y="12874"/>
                  <a:pt x="11391" y="12852"/>
                  <a:pt x="11485" y="12849"/>
                </a:cubicBezTo>
                <a:cubicBezTo>
                  <a:pt x="11560" y="12846"/>
                  <a:pt x="11570" y="12878"/>
                  <a:pt x="11584" y="1284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43280" y="5411880"/>
            <a:ext cx="71640" cy="44280"/>
          </a:xfrm>
          <a:custGeom>
            <a:avLst/>
            <a:gdLst/>
            <a:ahLst/>
            <a:rect l="l" t="t" r="r" b="b"/>
            <a:pathLst>
              <a:path w="200" h="125">
                <a:moveTo>
                  <a:pt x="12898" y="15156"/>
                </a:moveTo>
                <a:cubicBezTo>
                  <a:pt x="12967" y="15139"/>
                  <a:pt x="13010" y="15067"/>
                  <a:pt x="13072" y="15032"/>
                </a:cubicBezTo>
                <a:cubicBezTo>
                  <a:pt x="13080" y="15032"/>
                  <a:pt x="13089" y="15032"/>
                  <a:pt x="13097" y="1503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49840" y="5357880"/>
            <a:ext cx="46080" cy="125280"/>
          </a:xfrm>
          <a:custGeom>
            <a:avLst/>
            <a:gdLst/>
            <a:ahLst/>
            <a:rect l="l" t="t" r="r" b="b"/>
            <a:pathLst>
              <a:path w="125" h="348">
                <a:moveTo>
                  <a:pt x="13196" y="14957"/>
                </a:moveTo>
                <a:cubicBezTo>
                  <a:pt x="13206" y="14899"/>
                  <a:pt x="13210" y="14898"/>
                  <a:pt x="13271" y="14883"/>
                </a:cubicBezTo>
                <a:cubicBezTo>
                  <a:pt x="13232" y="15009"/>
                  <a:pt x="13206" y="14983"/>
                  <a:pt x="13271" y="15007"/>
                </a:cubicBezTo>
                <a:cubicBezTo>
                  <a:pt x="13353" y="15037"/>
                  <a:pt x="13325" y="15151"/>
                  <a:pt x="13271" y="15205"/>
                </a:cubicBezTo>
                <a:cubicBezTo>
                  <a:pt x="13230" y="15225"/>
                  <a:pt x="13214" y="15244"/>
                  <a:pt x="13221" y="1520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40200" y="5322960"/>
            <a:ext cx="54000" cy="133200"/>
          </a:xfrm>
          <a:custGeom>
            <a:avLst/>
            <a:gdLst/>
            <a:ahLst/>
            <a:rect l="l" t="t" r="r" b="b"/>
            <a:pathLst>
              <a:path w="150" h="373">
                <a:moveTo>
                  <a:pt x="13444" y="14784"/>
                </a:moveTo>
                <a:cubicBezTo>
                  <a:pt x="13489" y="14874"/>
                  <a:pt x="13593" y="15056"/>
                  <a:pt x="13593" y="15156"/>
                </a:cubicBezTo>
                <a:cubicBezTo>
                  <a:pt x="13585" y="15156"/>
                  <a:pt x="13576" y="15156"/>
                  <a:pt x="13568" y="1515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303800" y="5375160"/>
            <a:ext cx="635040" cy="196920"/>
          </a:xfrm>
          <a:custGeom>
            <a:avLst/>
            <a:gdLst/>
            <a:ahLst/>
            <a:rect l="l" t="t" r="r" b="b"/>
            <a:pathLst>
              <a:path w="1762" h="547">
                <a:moveTo>
                  <a:pt x="11956" y="15478"/>
                </a:moveTo>
                <a:cubicBezTo>
                  <a:pt x="12187" y="15339"/>
                  <a:pt x="12494" y="15263"/>
                  <a:pt x="12750" y="15180"/>
                </a:cubicBezTo>
                <a:cubicBezTo>
                  <a:pt x="13070" y="15076"/>
                  <a:pt x="13396" y="15019"/>
                  <a:pt x="13717" y="1493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99000" y="5607000"/>
            <a:ext cx="9360" cy="162000"/>
          </a:xfrm>
          <a:custGeom>
            <a:avLst/>
            <a:gdLst/>
            <a:ahLst/>
            <a:rect l="l" t="t" r="r" b="b"/>
            <a:pathLst>
              <a:path w="26" h="448">
                <a:moveTo>
                  <a:pt x="12774" y="15677"/>
                </a:moveTo>
                <a:cubicBezTo>
                  <a:pt x="12790" y="15639"/>
                  <a:pt x="12799" y="15524"/>
                  <a:pt x="12799" y="15627"/>
                </a:cubicBezTo>
                <a:cubicBezTo>
                  <a:pt x="12799" y="15759"/>
                  <a:pt x="12799" y="15892"/>
                  <a:pt x="12799" y="1602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919760" y="5786280"/>
            <a:ext cx="36360" cy="187560"/>
          </a:xfrm>
          <a:custGeom>
            <a:avLst/>
            <a:gdLst/>
            <a:ahLst/>
            <a:rect l="l" t="t" r="r" b="b"/>
            <a:pathLst>
              <a:path w="101" h="522">
                <a:moveTo>
                  <a:pt x="13667" y="16073"/>
                </a:moveTo>
                <a:cubicBezTo>
                  <a:pt x="13686" y="16227"/>
                  <a:pt x="13703" y="16395"/>
                  <a:pt x="13742" y="16545"/>
                </a:cubicBezTo>
                <a:cubicBezTo>
                  <a:pt x="13762" y="16585"/>
                  <a:pt x="13781" y="16601"/>
                  <a:pt x="13742" y="1659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867200" y="5938920"/>
            <a:ext cx="276480" cy="54000"/>
          </a:xfrm>
          <a:custGeom>
            <a:avLst/>
            <a:gdLst/>
            <a:ahLst/>
            <a:rect l="l" t="t" r="r" b="b"/>
            <a:pathLst>
              <a:path w="770" h="150">
                <a:moveTo>
                  <a:pt x="13519" y="16644"/>
                </a:moveTo>
                <a:cubicBezTo>
                  <a:pt x="13710" y="16601"/>
                  <a:pt x="13890" y="16537"/>
                  <a:pt x="14089" y="16520"/>
                </a:cubicBezTo>
                <a:cubicBezTo>
                  <a:pt x="14144" y="16515"/>
                  <a:pt x="14272" y="16509"/>
                  <a:pt x="14288" y="1652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911840" y="6081840"/>
            <a:ext cx="142920" cy="214200"/>
          </a:xfrm>
          <a:custGeom>
            <a:avLst/>
            <a:gdLst/>
            <a:ahLst/>
            <a:rect l="l" t="t" r="r" b="b"/>
            <a:pathLst>
              <a:path w="397" h="596">
                <a:moveTo>
                  <a:pt x="13915" y="16892"/>
                </a:moveTo>
                <a:cubicBezTo>
                  <a:pt x="13838" y="16918"/>
                  <a:pt x="13780" y="16954"/>
                  <a:pt x="13692" y="16966"/>
                </a:cubicBezTo>
                <a:cubicBezTo>
                  <a:pt x="13692" y="17041"/>
                  <a:pt x="13692" y="17115"/>
                  <a:pt x="13692" y="17190"/>
                </a:cubicBezTo>
                <a:cubicBezTo>
                  <a:pt x="13785" y="17174"/>
                  <a:pt x="13900" y="17101"/>
                  <a:pt x="13990" y="17165"/>
                </a:cubicBezTo>
                <a:cubicBezTo>
                  <a:pt x="14148" y="17277"/>
                  <a:pt x="13919" y="17407"/>
                  <a:pt x="13841" y="17438"/>
                </a:cubicBezTo>
                <a:cubicBezTo>
                  <a:pt x="13712" y="17490"/>
                  <a:pt x="13673" y="17529"/>
                  <a:pt x="13643" y="1743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276880" y="5875200"/>
            <a:ext cx="98280" cy="152640"/>
          </a:xfrm>
          <a:custGeom>
            <a:avLst/>
            <a:gdLst/>
            <a:ahLst/>
            <a:rect l="l" t="t" r="r" b="b"/>
            <a:pathLst>
              <a:path w="273" h="423">
                <a:moveTo>
                  <a:pt x="14660" y="16321"/>
                </a:moveTo>
                <a:cubicBezTo>
                  <a:pt x="14743" y="16428"/>
                  <a:pt x="14801" y="16559"/>
                  <a:pt x="14883" y="16669"/>
                </a:cubicBezTo>
                <a:cubicBezTo>
                  <a:pt x="14922" y="16708"/>
                  <a:pt x="14938" y="16709"/>
                  <a:pt x="14932" y="1674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313240" y="5840280"/>
            <a:ext cx="71640" cy="231840"/>
          </a:xfrm>
          <a:custGeom>
            <a:avLst/>
            <a:gdLst/>
            <a:ahLst/>
            <a:rect l="l" t="t" r="r" b="b"/>
            <a:pathLst>
              <a:path w="199" h="646">
                <a:moveTo>
                  <a:pt x="14957" y="16222"/>
                </a:moveTo>
                <a:cubicBezTo>
                  <a:pt x="14931" y="16422"/>
                  <a:pt x="14853" y="16626"/>
                  <a:pt x="14784" y="16818"/>
                </a:cubicBezTo>
                <a:cubicBezTo>
                  <a:pt x="14776" y="16834"/>
                  <a:pt x="14767" y="16851"/>
                  <a:pt x="14759" y="1686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491080" y="5742000"/>
            <a:ext cx="100080" cy="250920"/>
          </a:xfrm>
          <a:custGeom>
            <a:avLst/>
            <a:gdLst/>
            <a:ahLst/>
            <a:rect l="l" t="t" r="r" b="b"/>
            <a:pathLst>
              <a:path w="274" h="696">
                <a:moveTo>
                  <a:pt x="15478" y="15974"/>
                </a:moveTo>
                <a:cubicBezTo>
                  <a:pt x="15493" y="15974"/>
                  <a:pt x="15393" y="15934"/>
                  <a:pt x="15329" y="16024"/>
                </a:cubicBezTo>
                <a:cubicBezTo>
                  <a:pt x="15270" y="16107"/>
                  <a:pt x="15260" y="16191"/>
                  <a:pt x="15280" y="16272"/>
                </a:cubicBezTo>
                <a:cubicBezTo>
                  <a:pt x="15363" y="16196"/>
                  <a:pt x="15415" y="16121"/>
                  <a:pt x="15478" y="16024"/>
                </a:cubicBezTo>
                <a:cubicBezTo>
                  <a:pt x="15498" y="16183"/>
                  <a:pt x="15525" y="16333"/>
                  <a:pt x="15528" y="16495"/>
                </a:cubicBezTo>
                <a:cubicBezTo>
                  <a:pt x="15528" y="16589"/>
                  <a:pt x="15549" y="16610"/>
                  <a:pt x="15503" y="1664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491080" y="6018120"/>
            <a:ext cx="196920" cy="19080"/>
          </a:xfrm>
          <a:custGeom>
            <a:avLst/>
            <a:gdLst/>
            <a:ahLst/>
            <a:rect l="l" t="t" r="r" b="b"/>
            <a:pathLst>
              <a:path w="547" h="51">
                <a:moveTo>
                  <a:pt x="15255" y="16768"/>
                </a:moveTo>
                <a:cubicBezTo>
                  <a:pt x="15413" y="16759"/>
                  <a:pt x="15595" y="16708"/>
                  <a:pt x="15751" y="16718"/>
                </a:cubicBezTo>
                <a:cubicBezTo>
                  <a:pt x="15768" y="16726"/>
                  <a:pt x="15784" y="16735"/>
                  <a:pt x="15801" y="1674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89720" y="6153120"/>
            <a:ext cx="9360" cy="177840"/>
          </a:xfrm>
          <a:custGeom>
            <a:avLst/>
            <a:gdLst/>
            <a:ahLst/>
            <a:rect l="l" t="t" r="r" b="b"/>
            <a:pathLst>
              <a:path w="26" h="498">
                <a:moveTo>
                  <a:pt x="15528" y="17090"/>
                </a:moveTo>
                <a:cubicBezTo>
                  <a:pt x="15528" y="17258"/>
                  <a:pt x="15536" y="17421"/>
                  <a:pt x="15553" y="17587"/>
                </a:cubicBezTo>
                <a:cubicBezTo>
                  <a:pt x="15553" y="17579"/>
                  <a:pt x="15553" y="17570"/>
                  <a:pt x="15553" y="1756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759280" y="6000840"/>
            <a:ext cx="81000" cy="9360"/>
          </a:xfrm>
          <a:custGeom>
            <a:avLst/>
            <a:gdLst/>
            <a:ahLst/>
            <a:rect l="l" t="t" r="r" b="b"/>
            <a:pathLst>
              <a:path w="224" h="26">
                <a:moveTo>
                  <a:pt x="15999" y="16694"/>
                </a:moveTo>
                <a:cubicBezTo>
                  <a:pt x="16082" y="16694"/>
                  <a:pt x="16146" y="16698"/>
                  <a:pt x="16222" y="1666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769000" y="6072120"/>
            <a:ext cx="88920" cy="36720"/>
          </a:xfrm>
          <a:custGeom>
            <a:avLst/>
            <a:gdLst/>
            <a:ahLst/>
            <a:rect l="l" t="t" r="r" b="b"/>
            <a:pathLst>
              <a:path w="249" h="100">
                <a:moveTo>
                  <a:pt x="16024" y="16966"/>
                </a:moveTo>
                <a:cubicBezTo>
                  <a:pt x="16165" y="16966"/>
                  <a:pt x="16203" y="16982"/>
                  <a:pt x="16272" y="1686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965920" y="5742000"/>
            <a:ext cx="98280" cy="231840"/>
          </a:xfrm>
          <a:custGeom>
            <a:avLst/>
            <a:gdLst/>
            <a:ahLst/>
            <a:rect l="l" t="t" r="r" b="b"/>
            <a:pathLst>
              <a:path w="273" h="646">
                <a:moveTo>
                  <a:pt x="16768" y="16049"/>
                </a:moveTo>
                <a:cubicBezTo>
                  <a:pt x="16768" y="16057"/>
                  <a:pt x="16768" y="16065"/>
                  <a:pt x="16768" y="16073"/>
                </a:cubicBezTo>
                <a:cubicBezTo>
                  <a:pt x="16790" y="16066"/>
                  <a:pt x="16813" y="16035"/>
                  <a:pt x="16793" y="15999"/>
                </a:cubicBezTo>
                <a:cubicBezTo>
                  <a:pt x="16735" y="15895"/>
                  <a:pt x="16652" y="15954"/>
                  <a:pt x="16619" y="16024"/>
                </a:cubicBezTo>
                <a:cubicBezTo>
                  <a:pt x="16565" y="16141"/>
                  <a:pt x="16561" y="16184"/>
                  <a:pt x="16594" y="16297"/>
                </a:cubicBezTo>
                <a:cubicBezTo>
                  <a:pt x="16740" y="16264"/>
                  <a:pt x="16750" y="16186"/>
                  <a:pt x="16793" y="16049"/>
                </a:cubicBezTo>
                <a:cubicBezTo>
                  <a:pt x="16812" y="16216"/>
                  <a:pt x="16837" y="16376"/>
                  <a:pt x="16842" y="16545"/>
                </a:cubicBezTo>
                <a:cubicBezTo>
                  <a:pt x="16842" y="16561"/>
                  <a:pt x="16842" y="16578"/>
                  <a:pt x="16842" y="1659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938920" y="6027840"/>
            <a:ext cx="268200" cy="44280"/>
          </a:xfrm>
          <a:custGeom>
            <a:avLst/>
            <a:gdLst/>
            <a:ahLst/>
            <a:rect l="l" t="t" r="r" b="b"/>
            <a:pathLst>
              <a:path w="745" h="125">
                <a:moveTo>
                  <a:pt x="16495" y="16867"/>
                </a:moveTo>
                <a:cubicBezTo>
                  <a:pt x="16630" y="16844"/>
                  <a:pt x="16785" y="16844"/>
                  <a:pt x="16917" y="16818"/>
                </a:cubicBezTo>
                <a:cubicBezTo>
                  <a:pt x="16942" y="16813"/>
                  <a:pt x="17202" y="16697"/>
                  <a:pt x="17239" y="16743"/>
                </a:cubicBezTo>
                <a:cubicBezTo>
                  <a:pt x="17239" y="16751"/>
                  <a:pt x="17239" y="16760"/>
                  <a:pt x="17239" y="1676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973840" y="6153120"/>
            <a:ext cx="135000" cy="160200"/>
          </a:xfrm>
          <a:custGeom>
            <a:avLst/>
            <a:gdLst/>
            <a:ahLst/>
            <a:rect l="l" t="t" r="r" b="b"/>
            <a:pathLst>
              <a:path w="373" h="448">
                <a:moveTo>
                  <a:pt x="16966" y="17090"/>
                </a:moveTo>
                <a:cubicBezTo>
                  <a:pt x="16873" y="17106"/>
                  <a:pt x="16790" y="17135"/>
                  <a:pt x="16694" y="17140"/>
                </a:cubicBezTo>
                <a:cubicBezTo>
                  <a:pt x="16663" y="17142"/>
                  <a:pt x="16649" y="17229"/>
                  <a:pt x="16644" y="17264"/>
                </a:cubicBezTo>
                <a:cubicBezTo>
                  <a:pt x="16644" y="17305"/>
                  <a:pt x="16644" y="17313"/>
                  <a:pt x="16644" y="17338"/>
                </a:cubicBezTo>
                <a:cubicBezTo>
                  <a:pt x="16644" y="17346"/>
                  <a:pt x="16644" y="17355"/>
                  <a:pt x="16644" y="17363"/>
                </a:cubicBezTo>
                <a:cubicBezTo>
                  <a:pt x="16720" y="17350"/>
                  <a:pt x="16790" y="17322"/>
                  <a:pt x="16867" y="17314"/>
                </a:cubicBezTo>
                <a:cubicBezTo>
                  <a:pt x="16914" y="17407"/>
                  <a:pt x="16872" y="17468"/>
                  <a:pt x="16768" y="17512"/>
                </a:cubicBezTo>
                <a:cubicBezTo>
                  <a:pt x="16705" y="17539"/>
                  <a:pt x="16657" y="17537"/>
                  <a:pt x="16594" y="1753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8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9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9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9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ractice Time….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xit Ticke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43000" y="1752480"/>
                <a:ext cx="16002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85" name=""/>
          <p:cNvGraphicFramePr/>
          <p:nvPr/>
        </p:nvGraphicFramePr>
        <p:xfrm>
          <a:off x="6019920" y="1828800"/>
          <a:ext cx="1676160" cy="123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1828800"/>
                    <a:ext cx="1676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593640" y="1712880"/>
            <a:ext cx="5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091120" y="16398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033720" y="39258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3581280" y="4267080"/>
                <a:ext cx="1987560" cy="137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÷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00:59:01Z</dcterms:created>
  <dc:creator>ccps</dc:creator>
  <dc:description/>
  <dc:language>en-US</dc:language>
  <cp:lastModifiedBy>demcgra</cp:lastModifiedBy>
  <dcterms:modified xsi:type="dcterms:W3CDTF">2012-04-13T15:31:26Z</dcterms:modified>
  <cp:revision>9</cp:revision>
  <dc:subject/>
  <dc:title>Obj 5.4:  To divide fractions &amp; mixed numbers.</dc:title>
</cp:coreProperties>
</file>